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43.png" ContentType="image/png"/>
  <Override PartName="/ppt/media/image40.png" ContentType="image/png"/>
  <Override PartName="/ppt/media/image38.jpeg" ContentType="image/jpeg"/>
  <Override PartName="/ppt/media/image37.jpeg" ContentType="image/jpeg"/>
  <Override PartName="/ppt/media/image36.png" ContentType="image/png"/>
  <Override PartName="/ppt/media/image31.png" ContentType="image/png"/>
  <Override PartName="/ppt/media/image30.jpeg" ContentType="image/jpeg"/>
  <Override PartName="/ppt/media/image39.png" ContentType="image/png"/>
  <Override PartName="/ppt/media/image64.jpeg" ContentType="image/jpeg"/>
  <Override PartName="/ppt/media/image29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16.jpeg" ContentType="image/jpeg"/>
  <Override PartName="/ppt/media/image51.jpeg" ContentType="image/jpeg"/>
  <Override PartName="/ppt/media/image62.png" ContentType="image/png"/>
  <Override PartName="/ppt/media/image60.png" ContentType="image/png"/>
  <Override PartName="/ppt/media/image63.jpeg" ContentType="image/jpeg"/>
  <Override PartName="/ppt/media/image74.png" ContentType="image/png"/>
  <Override PartName="/ppt/media/image78.jpeg" ContentType="image/jpeg"/>
  <Override PartName="/ppt/media/image61.jpeg" ContentType="image/jpeg"/>
  <Override PartName="/ppt/media/image77.png" ContentType="image/png"/>
  <Override PartName="/ppt/media/image86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9.png" ContentType="image/png"/>
  <Override PartName="/ppt/media/image70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65.jpeg" ContentType="image/jpeg"/>
  <Override PartName="/ppt/media/image8.png" ContentType="image/png"/>
  <Override PartName="/ppt/media/image80.jpeg" ContentType="image/jpeg"/>
  <Override PartName="/ppt/media/image52.jpeg" ContentType="image/jpeg"/>
  <Override PartName="/ppt/media/image13.png" ContentType="image/png"/>
  <Override PartName="/ppt/media/image67.png" ContentType="image/png"/>
  <Override PartName="/ppt/media/image69.jpeg" ContentType="image/jpeg"/>
  <Override PartName="/ppt/media/image76.png" ContentType="image/png"/>
  <Override PartName="/ppt/media/image6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.jpeg" ContentType="image/jpeg"/>
  <Override PartName="/ppt/media/image71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11.jpeg" ContentType="image/jpeg"/>
  <Override PartName="/ppt/media/image84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D55C-F07D-4C59-8C33-3E9F96DA6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адаева Ирина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музыки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6C01-F206-4AFE-A836-D0BA2400E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3-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65D7-544E-4E05-8EF1-FFD192095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B577-BCEA-4B0D-8FFE-92C470CE7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906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1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63A-4D1A-4502-955F-B199E6111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A7C3-D446-4E07-B8C5-2970D9F5C6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Экс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6821-7D09-40E0-ADCA-83C1026F0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EF9B-DC85-4150-BA5C-4E805DD15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2570-4C90-46F7-8568-6C98CA6E38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1E4C-6AFC-4B83-969D-5B5A5FB31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Арнольд Шёнб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854-19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916A-72DE-492F-9894-2F9F6B31B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8130-98EA-4822-B72F-71F469387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9F11-B25D-4FD0-9693-4A6AE39F5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Скря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71-19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12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942E-867A-4C64-84AD-FE30F51DB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ределе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– 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9D90-EDF4-4407-A409-221B63E79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7514-F41A-464C-86F9-EED07A299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Советский дж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5F8D-1DDD-4687-A98D-E2A09CF73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B094-8256-4FBB-A384-636EDF0B3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D632-98D4-409D-BCEF-4FD9C5311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Авангар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C74E-D566-4D8A-8F21-97C949565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1171-CC17-465F-9ABC-026CFDB52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7FAD-5941-4C94-BBCD-778130A90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в му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. 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F1E7-D613-497B-8CE2-A4F556B9DF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3F8A-8D0D-49D2-B96C-9B759F670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Альфред Шн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(1934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A650-1582-4D7D-8A51-39809F3810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C70D-30CA-45C6-B602-93B92EC3D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хайнц Штокхау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8598-F91D-41AC-900D-E6973AB75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A93B-CD40-4456-A185-1D22F506F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Им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CDFC-34A7-415E-AF17-E627ABA6B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9729-8B5C-4A68-900E-751ED9951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EFAB-AA03-4DF1-A595-178C37D87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20FF-9034-4ECB-99D1-B4E46F307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1633-55EA-4A46-8575-873668536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од Дебюс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62-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C11F-CB16-4BC1-BDDA-4EA4CC36D0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A425-8870-4A59-9C45-488466406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Морис Ра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(1875-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7C8-A953-485F-BE1B-D1DA45664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54A4-87A0-4133-9491-03B523B18D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B68-EC54-45B5-AD1F-7632D4913D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86BC-17AD-49F5-95EE-C723B1DC5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лухо 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806-43D2-4CB7-A673-3490A4988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Pur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he Bea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ерное, групп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-ролл. Назв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«The Beatles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риобрели намного поз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ре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ода в Шотлан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23E1-AEAB-43E5-B452-85F50F2F7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me d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 году группа распа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2940-28B6-48F1-8FED-16CB5B4CF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CEF4-97DA-43DA-A18B-18407A568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в му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нгард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66BD-59F0-4E6C-8603-875E35EFE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ep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2136-F2E9-453C-95C6-F22CC856F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1882-21F3-40CA-9E31-1A464E263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4C10-7D97-4B9E-A43D-BE0B7B986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B3B1-554B-43D4-AF50-8B4B60610F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44D0-4451-4223-8E66-F50781B12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C1F3-D709-44F0-A429-1D49A4D45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32FB-3F88-4CBC-A8C2-4B494BC3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2A9F-192D-4CCF-8577-C714F024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FEEC7-0F81-47E4-BA75-441C4C9E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6D7F0-85EB-4FC3-87D5-D59EF2A1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7E9C1-990C-407C-870B-B8E628A2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4EAE1-2FEA-4C22-A4DE-EF3079F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FB32E-00D9-4735-B5A1-16774AA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3D675-A13C-4415-8CB7-6731CE4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1C89A-7B09-42C9-A358-FE4A3A8B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EBECF-5DDF-4CA8-8D45-B3F8919E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43726-D669-4E6D-8FD0-D7410ED9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BB92C-9DE2-4160-BF91-1CB97C47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8385-C7BF-403F-94FE-D4E47D8B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510D-1F6E-45CF-A57A-2132370E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8234D-33F2-40DC-A0DA-D52BFB25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02385-7F07-422C-8815-30418DFB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6486D-6DFE-45AF-91EB-3A1A844D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73284-3DFA-426C-8CAB-F25A9189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015FA-87DA-4DA8-8314-98C7FA9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D2C39-F331-486E-9C4A-2CC92E8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5EBC3-F435-4DDE-AE7B-C5FE4C3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597EF-85B4-4A89-9276-A90378FF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B0284-E1FE-49B8-8EC3-1ED75291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3CE6-BA7F-4A97-842D-D641E1E8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A0999-E0B1-4B01-914F-650A867E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32F29-9578-43B6-9098-DD99D768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6828D-7A38-4B5D-9AFE-1B36B1E3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445B9-7109-46AA-B6BA-F2339D3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3942D-1E0C-43D6-8FCE-7B03C0A9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36D04-916D-4B0D-9C64-0C6ED1DF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EFCA8-E798-4379-80D3-3AEB43C0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A2F58-DB50-430B-8768-1830EB54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82C46-8D86-4EBF-A8BB-D02B5C1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188AD-E733-4DD5-90C4-523EC1F3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4396-A813-44A9-AE0F-8332F84B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DEA76-91AA-4D84-A9CF-DDFD2DFB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FC25D-E4DC-4215-B592-E251E6F7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82061-0C33-47AE-A1D1-B46123C9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66893-3934-4601-8568-9256A4D9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FF3BA-91D1-480A-A2C9-B4A40063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FCB52-B41C-40EC-9ABA-4CBDB3E8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AF47-31FA-46D6-BB3C-509B64F6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B226C-4501-430D-BEB9-AF5638A5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B6645-B64B-4E0E-AF93-DD5C562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EEA96-D817-4938-B250-0ED16E5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0382-8AD6-45D8-B178-1DED3A83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79B61-412D-4409-87A2-27592017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28727-91E4-4AC5-988A-86328ED3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E21D5-C52E-49C5-884B-9D31EEFB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48B03-E54C-4706-BE07-89A13EE9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890DA-38C4-468F-8CF8-478C4226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B8FD0-26B2-4DA5-A6F3-F3D256DD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D4D95-291B-4028-9AE6-FFCC7584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D9D26-9E09-4E9D-9A13-79F79FC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DFE26-1D4F-4EE8-B30D-F41D31B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945F5-9F33-4A04-9BF1-F78E263F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945E-15B3-40B1-BD46-4CDC4C71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41D9E-58A6-463E-9E92-E4C55B21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CD9E9-F7B4-4A4E-8C74-BBCDA8A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A55AD-242D-4FD6-9194-534845B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8F563-B023-4708-8773-FAFDD9A1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320A8-6CC9-4FBC-95BA-CD41D58A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247CF-39CB-4DA5-BC9B-2918CBE1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320C1-EC91-4DCA-BEC6-B283C235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6F951-DE77-41AB-B444-1AD43490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9C5FB-57E3-4575-933E-76111C3E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3CA02-72FA-4243-97F6-003DBBB5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CFA3-9AB4-4540-836F-FECE6BA6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F00AC-B97E-4F20-A2A2-FEAFED97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A1D56-88DF-414F-A71D-89E7711C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729ED-48F0-435E-B63F-96BD135B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B8CBE-0534-4185-8AB4-B32E4271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C5AB3-7F65-48D1-B4D1-8AE4938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0C452-F8F3-4F36-B563-33642641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F1548-F654-49CF-AE29-DC82BC08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B77BD-EA34-495F-A850-6D884921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7A87C-2552-4DA3-9721-BAE93D17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C258-9807-4A2B-83D1-D19E709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4869-A41A-4754-83E6-63FC590F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F41-74BF-4E0C-BEB0-01E15B24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6595-473A-4F05-B0AD-EE1087C3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5124-EE74-4C01-BF97-A1820B8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6D98-85E2-430F-9BCA-87C6E66C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546B-8E8E-4AF0-8565-CE071E18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0989-3EF5-4EE0-816A-59036D15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5E5C-5A32-4816-8E76-A18CA80C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763B-92EC-466D-85E7-B573E419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EE3F-3458-4B20-9D6A-E5E27A56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0CFE-EB35-479F-8AA0-01827797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9F141-D33D-4828-8EE3-A72DD2E7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4EE6-1FC2-4AC6-8C10-07994591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A020-714C-41ED-A636-DD9211ED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A762-B02E-4AB5-A1B4-FECF3AC9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DEE7-C036-4204-A968-BDC1E48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61CC-4CC4-4B24-B50E-488F63AC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FFAE-6422-451E-BC5F-3DAD1F6B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C7F5-FC76-424E-B861-D97011A4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320B-4E58-44A0-B55F-CD24C840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3A8A-00FB-4A24-B553-C0D5ABDC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F2321-D20F-45BB-9DEC-E5A43C04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DEC83-6A01-4F6F-B592-3E4299C5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24FF3-EA07-4327-B153-5A1578FA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C28B-A226-45D8-8CB5-F5B8E716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C58D9-8D03-4559-80B5-D23CE1A3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90DEB-56CE-4C2A-B34B-4DDEB06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4A61D-BADF-400E-9CE5-28D9B7E4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3A32D-0E43-413B-82C9-237FFAAA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A1B92-9DF3-4AED-99CD-CCC0F276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231C0-380C-4986-97F6-531AF75E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0845B-EEDC-430C-ACA0-6B2552F8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CF792-D37D-4D94-850F-BE505319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02781-B1E5-40C1-859D-D4F5EE19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B866-35FF-42E2-BFED-42371512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CC95-2998-49F8-A888-414AD932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35119-49D9-4A53-95C0-D13677F1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2F6B-FF88-4ED3-AB77-69FDB6C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42AE-850F-4353-B2D0-1FCF3489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3E0E3-49F2-42B2-A83D-9001E633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582C-B02D-4A0B-A534-1BE437DC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9861-2F69-4D0F-9E07-3BCB764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2739-B43A-4592-916D-E23F960D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3A9A-FAA9-42DE-A072-0C81C09C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45E7-D1BF-4827-BC44-888F7E63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DCAB3-2E7B-4026-B4BB-663FF140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CF2F4-E22D-4CDC-A413-D3012392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5928-0B17-433C-ABA9-FC723A2B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E2936-84FB-4B9A-BC84-BF7F67E2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DF32-E6CA-48ED-A4A8-AF2F4299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2F2F4-1702-4454-BC23-737B3AB3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A28DF-78C9-4B63-9279-EBF900ED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08839-A023-4E5D-898D-4A311EA5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EA57E-19FC-4F66-A518-7A270F28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D0A7F-7960-4ED1-B8AC-F5FEF0A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D1E9C-10C1-4259-A972-B1D249A0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F0DE1-98B5-4C0A-AE5F-75184509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E4C2-E651-4C78-868B-D1FF3213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9872C-2C05-47BE-80D9-75F062C6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7CD94-AE46-472B-97A4-F641CF53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580C7-BA1F-4670-B993-CDE9CAFE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135DA-CDF1-46FE-A517-A8C9465A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63B6A-7BDB-4246-B6FC-3F62C945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B8E5B-E2DE-4E68-A779-930590F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33FD-EAED-412A-BCE9-3FD8F17F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E0B1-D73F-46FA-9D20-FB5D60A2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6E64-4683-4D66-B13D-C7A0BBCD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860C4-9C75-48FF-AC9B-37E94FD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3CDB-64B4-4BE7-95E3-AE37AC96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4523-574A-4333-97EF-C87B577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10CB9-C3B1-4D77-B502-E7561CE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C755-2C14-4025-84EE-65318A48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09E4-9FA7-4F8B-A9AF-2A1A45B0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168B1-674D-4F6B-8927-D6560575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89C1-0BF2-45AF-AFB8-B6C57DEE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35100-E479-43F0-9C69-7ED42F97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1EAFE-2478-4269-8E6E-2048E000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06F35-F091-4A97-817A-50F2D2E4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F526B-75E7-4A75-8003-DF59D69D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6D5E-8A92-410C-B4A2-80E689E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6910-C65D-4728-88DF-0F888E2D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D5A8E-8559-4DDC-8DF2-0F75D24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E8F1F-FDF6-490C-9DC5-5CE32C20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F2B25-40FC-41C8-9AA3-D18EBD0B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EB6D4-A8A8-4AE8-8296-240FC4D0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4E5B3-CFCB-42D9-AD01-B9C15238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13858-2D65-4F64-8A10-E4D34625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17E50-FFC0-4586-BD0C-06DD3AED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5152B-0E25-4673-8D12-2A4DD4EB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2990D-E187-42A3-B3DA-C2D0EC30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F50-93BA-451D-8138-1853257823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0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0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3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04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50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8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B7BE-679C-4FB6-807D-60753A4B0F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5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41C4-F830-423D-B91E-F22719365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5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5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0B49-85B4-4DB4-B695-FF3263CF46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69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95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9A01-EBDC-47C9-88BB-ABA3B54168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3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3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74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4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74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EED-C7EC-4E8E-AC19-9F13BDF61659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E5EE-E0CF-4500-A6E4-273FC8935C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8151-1FB4-4523-8FA4-C28770E13A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DAEB-44E1-43A7-99F6-D42258682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1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25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C83-B6D6-40CF-B766-36CF624B1B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C04C-1DAD-4D7B-B772-5509C667E1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AE08-2A3C-4A87-BBCA-46337F2A7052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4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4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4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5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5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5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2CEC-AD07-40D6-A35D-C10C231EE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3155-8CF0-4835-B98A-23BEFD7088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1.png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file:///&#1052;&#1091;&#1079;&#1099;&#1082;&#1072;%20&#1074;%20XX%20&#1074;&#1077;&#1082;&#1077;.ppt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5"/>
          <p:cNvSpPr/>
          <p:nvPr/>
        </p:nvSpPr>
        <p:spPr>
          <a:xfrm>
            <a:off x="468360" y="476280"/>
            <a:ext cx="7632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адаева Ирина Анатольевна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музыки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валификационная категория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 класс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ели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140360" y="2204640"/>
            <a:ext cx="41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1258920" y="2205000"/>
            <a:ext cx="2346120" cy="3510000"/>
          </a:xfrm>
          <a:prstGeom prst="rect">
            <a:avLst/>
          </a:prstGeom>
          <a:ln w="0">
            <a:noFill/>
          </a:ln>
        </p:spPr>
      </p:pic>
      <p:pic>
        <p:nvPicPr>
          <p:cNvPr id="848" name="WordArt 8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913280" cy="1303200"/>
          </a:xfrm>
          <a:prstGeom prst="rect">
            <a:avLst/>
          </a:prstGeom>
          <a:ln w="0">
            <a:noFill/>
          </a:ln>
        </p:spPr>
      </p:pic>
      <p:sp>
        <p:nvSpPr>
          <p:cNvPr id="8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4249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5">
            <a:hlinkClick r:id="rId1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52" name="Picture 6" descr="Бриттен"/>
          <p:cNvPicPr/>
          <p:nvPr/>
        </p:nvPicPr>
        <p:blipFill>
          <a:blip r:embed="rId2"/>
          <a:stretch/>
        </p:blipFill>
        <p:spPr>
          <a:xfrm>
            <a:off x="5796000" y="1557360"/>
            <a:ext cx="2425680" cy="3267000"/>
          </a:xfrm>
          <a:prstGeom prst="rect">
            <a:avLst/>
          </a:prstGeom>
          <a:ln w="0">
            <a:noFill/>
          </a:ln>
        </p:spPr>
      </p:pic>
      <p:sp>
        <p:nvSpPr>
          <p:cNvPr id="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140000" y="2276280"/>
            <a:ext cx="439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Шостакович 1"/>
          <p:cNvPicPr/>
          <p:nvPr/>
        </p:nvPicPr>
        <p:blipFill>
          <a:blip r:embed="rId1"/>
          <a:stretch/>
        </p:blipFill>
        <p:spPr>
          <a:xfrm>
            <a:off x="826920" y="2492280"/>
            <a:ext cx="2900520" cy="3435480"/>
          </a:xfrm>
          <a:prstGeom prst="rect">
            <a:avLst/>
          </a:prstGeom>
          <a:ln w="0">
            <a:noFill/>
          </a:ln>
        </p:spPr>
      </p:pic>
      <p:pic>
        <p:nvPicPr>
          <p:cNvPr id="856" name="WordArt 6" descr=""/>
          <p:cNvPicPr/>
          <p:nvPr/>
        </p:nvPicPr>
        <p:blipFill>
          <a:blip r:embed="rId2"/>
          <a:stretch/>
        </p:blipFill>
        <p:spPr>
          <a:xfrm>
            <a:off x="2120760" y="615960"/>
            <a:ext cx="5370480" cy="1309680"/>
          </a:xfrm>
          <a:prstGeom prst="rect">
            <a:avLst/>
          </a:prstGeom>
          <a:ln w="0">
            <a:noFill/>
          </a:ln>
        </p:spPr>
      </p:pic>
      <p:sp>
        <p:nvSpPr>
          <p:cNvPr id="8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6767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">
            <a:hlinkClick r:id="rId1"/>
          </p:cNvPr>
          <p:cNvSpPr/>
          <p:nvPr/>
        </p:nvSpPr>
        <p:spPr>
          <a:xfrm>
            <a:off x="7812000" y="5815080"/>
            <a:ext cx="1332000" cy="1042920"/>
          </a:xfrm>
          <a:custGeom>
            <a:avLst/>
            <a:gdLst>
              <a:gd name="textAreaLeft" fmla="*/ 67320 w 1332000"/>
              <a:gd name="textAreaRight" fmla="*/ 1264680 w 1332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7585" h="21600">
                <a:moveTo>
                  <a:pt x="0" y="0"/>
                </a:moveTo>
                <a:lnTo>
                  <a:pt x="27585" y="0"/>
                </a:lnTo>
                <a:lnTo>
                  <a:pt x="27585" y="21600"/>
                </a:lnTo>
                <a:lnTo>
                  <a:pt x="0" y="21600"/>
                </a:lnTo>
                <a:close/>
              </a:path>
              <a:path fill="lightenLess" w="27585" h="21600">
                <a:moveTo>
                  <a:pt x="0" y="0"/>
                </a:moveTo>
                <a:lnTo>
                  <a:pt x="27585" y="0"/>
                </a:lnTo>
                <a:lnTo>
                  <a:pt x="26185" y="1400"/>
                </a:lnTo>
                <a:lnTo>
                  <a:pt x="1400" y="1400"/>
                </a:lnTo>
                <a:close/>
              </a:path>
              <a:path fill="darken" w="27585" h="21600">
                <a:moveTo>
                  <a:pt x="27585" y="0"/>
                </a:moveTo>
                <a:lnTo>
                  <a:pt x="27585" y="21600"/>
                </a:lnTo>
                <a:lnTo>
                  <a:pt x="26185" y="20200"/>
                </a:lnTo>
                <a:lnTo>
                  <a:pt x="26185" y="1400"/>
                </a:lnTo>
                <a:close/>
              </a:path>
              <a:path fill="darkenLess" w="27585" h="21600">
                <a:moveTo>
                  <a:pt x="2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85" y="20200"/>
                </a:lnTo>
                <a:close/>
              </a:path>
              <a:path fill="lighten" w="2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85" h="21600">
                <a:moveTo>
                  <a:pt x="13793" y="3837"/>
                </a:moveTo>
                <a:lnTo>
                  <a:pt x="16369" y="6448"/>
                </a:ln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lnTo>
                  <a:pt x="20756" y="10800"/>
                </a:lnTo>
                <a:lnTo>
                  <a:pt x="19102" y="10800"/>
                </a:lnTo>
                <a:lnTo>
                  <a:pt x="19102" y="17989"/>
                </a:lnTo>
                <a:lnTo>
                  <a:pt x="8483" y="17989"/>
                </a:lnTo>
                <a:lnTo>
                  <a:pt x="8483" y="10800"/>
                </a:lnTo>
                <a:lnTo>
                  <a:pt x="6830" y="10800"/>
                </a:lnTo>
                <a:close/>
              </a:path>
              <a:path fill="darkenLess" w="27585" h="21600">
                <a:moveTo>
                  <a:pt x="16369" y="6448"/>
                </a:move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close/>
              </a:path>
              <a:path fill="darkenLess" w="27585" h="21600">
                <a:moveTo>
                  <a:pt x="12870" y="14299"/>
                </a:moveTo>
                <a:lnTo>
                  <a:pt x="14715" y="14299"/>
                </a:lnTo>
                <a:lnTo>
                  <a:pt x="14715" y="17989"/>
                </a:lnTo>
                <a:lnTo>
                  <a:pt x="19102" y="17989"/>
                </a:lnTo>
                <a:lnTo>
                  <a:pt x="19102" y="10800"/>
                </a:lnTo>
                <a:lnTo>
                  <a:pt x="8483" y="10800"/>
                </a:lnTo>
                <a:lnTo>
                  <a:pt x="8483" y="17989"/>
                </a:lnTo>
                <a:lnTo>
                  <a:pt x="1287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0" name="Picture 6" descr="Шостакович"/>
          <p:cNvPicPr/>
          <p:nvPr/>
        </p:nvPicPr>
        <p:blipFill>
          <a:blip r:embed="rId2"/>
          <a:stretch/>
        </p:blipFill>
        <p:spPr>
          <a:xfrm>
            <a:off x="2484360" y="3573360"/>
            <a:ext cx="3984840" cy="2781360"/>
          </a:xfrm>
          <a:prstGeom prst="rect">
            <a:avLst/>
          </a:prstGeom>
          <a:ln w="0">
            <a:noFill/>
          </a:ln>
        </p:spPr>
      </p:pic>
      <p:sp>
        <p:nvSpPr>
          <p:cNvPr id="8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61196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7">
            <a:hlinkClick r:id="rId1"/>
          </p:cNvPr>
          <p:cNvSpPr/>
          <p:nvPr/>
        </p:nvSpPr>
        <p:spPr>
          <a:xfrm>
            <a:off x="611280" y="1916280"/>
            <a:ext cx="5257800" cy="576000"/>
          </a:xfrm>
          <a:custGeom>
            <a:avLst/>
            <a:gdLst>
              <a:gd name="textAreaLeft" fmla="*/ 37080 w 5257800"/>
              <a:gd name="textAreaRight" fmla="*/ 5220720 w 52578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97058" h="21600">
                <a:moveTo>
                  <a:pt x="0" y="0"/>
                </a:moveTo>
                <a:lnTo>
                  <a:pt x="197058" y="0"/>
                </a:lnTo>
                <a:lnTo>
                  <a:pt x="197058" y="21600"/>
                </a:lnTo>
                <a:lnTo>
                  <a:pt x="0" y="21600"/>
                </a:lnTo>
                <a:close/>
              </a:path>
              <a:path fill="lightenLess" w="197058" h="21600">
                <a:moveTo>
                  <a:pt x="0" y="0"/>
                </a:moveTo>
                <a:lnTo>
                  <a:pt x="197058" y="0"/>
                </a:lnTo>
                <a:lnTo>
                  <a:pt x="195658" y="1400"/>
                </a:lnTo>
                <a:lnTo>
                  <a:pt x="1400" y="1400"/>
                </a:lnTo>
                <a:close/>
              </a:path>
              <a:path fill="darken" w="197058" h="21600">
                <a:moveTo>
                  <a:pt x="197058" y="0"/>
                </a:moveTo>
                <a:lnTo>
                  <a:pt x="197058" y="21600"/>
                </a:lnTo>
                <a:lnTo>
                  <a:pt x="195658" y="20200"/>
                </a:lnTo>
                <a:lnTo>
                  <a:pt x="195658" y="1400"/>
                </a:lnTo>
                <a:close/>
              </a:path>
              <a:path fill="darkenLess" w="197058" h="21600">
                <a:moveTo>
                  <a:pt x="19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58" y="20200"/>
                </a:lnTo>
                <a:close/>
              </a:path>
              <a:path fill="lighten" w="19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7058" h="21600">
                <a:moveTo>
                  <a:pt x="91522" y="3794"/>
                </a:moveTo>
                <a:lnTo>
                  <a:pt x="105535" y="10800"/>
                </a:lnTo>
                <a:lnTo>
                  <a:pt x="915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64" name="AutoShape 8">
            <a:hlinkClick r:id="rId2"/>
          </p:cNvPr>
          <p:cNvSpPr/>
          <p:nvPr/>
        </p:nvSpPr>
        <p:spPr>
          <a:xfrm>
            <a:off x="539640" y="249228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05025" h="21600">
                <a:moveTo>
                  <a:pt x="95506" y="3794"/>
                </a:moveTo>
                <a:lnTo>
                  <a:pt x="109519" y="10800"/>
                </a:lnTo>
                <a:lnTo>
                  <a:pt x="955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5" name="WordArt 10" descr=""/>
          <p:cNvPicPr/>
          <p:nvPr/>
        </p:nvPicPr>
        <p:blipFill>
          <a:blip r:embed="rId3"/>
          <a:stretch/>
        </p:blipFill>
        <p:spPr>
          <a:xfrm>
            <a:off x="1755720" y="469800"/>
            <a:ext cx="5529240" cy="1157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3" descr="импр 1"/>
          <p:cNvPicPr/>
          <p:nvPr/>
        </p:nvPicPr>
        <p:blipFill>
          <a:blip r:embed="rId4"/>
          <a:stretch/>
        </p:blipFill>
        <p:spPr>
          <a:xfrm>
            <a:off x="4427640" y="3573360"/>
            <a:ext cx="3541680" cy="2855880"/>
          </a:xfrm>
          <a:prstGeom prst="rect">
            <a:avLst/>
          </a:prstGeom>
          <a:ln w="0">
            <a:noFill/>
          </a:ln>
        </p:spPr>
      </p:pic>
      <p:sp>
        <p:nvSpPr>
          <p:cNvPr id="8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48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WordArt 5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492600" cy="6937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7" descr="picture"/>
          <p:cNvPicPr/>
          <p:nvPr/>
        </p:nvPicPr>
        <p:blipFill>
          <a:blip r:embed="rId2"/>
          <a:stretch/>
        </p:blipFill>
        <p:spPr>
          <a:xfrm>
            <a:off x="2843280" y="414972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8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96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" descr="Антон Веберн"/>
          <p:cNvPicPr/>
          <p:nvPr/>
        </p:nvPicPr>
        <p:blipFill>
          <a:blip r:embed="rId1"/>
          <a:stretch/>
        </p:blipFill>
        <p:spPr>
          <a:xfrm>
            <a:off x="5867280" y="1341360"/>
            <a:ext cx="2522520" cy="323064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5"/>
          <p:cNvSpPr/>
          <p:nvPr/>
        </p:nvSpPr>
        <p:spPr>
          <a:xfrm>
            <a:off x="6229440" y="4580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Антон Вебер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5" name="AutoShape 7">
            <a:hlinkClick r:id="rId2"/>
          </p:cNvPr>
          <p:cNvSpPr/>
          <p:nvPr/>
        </p:nvSpPr>
        <p:spPr>
          <a:xfrm>
            <a:off x="8101080" y="580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Арнольд Шёнберг"/>
          <p:cNvPicPr/>
          <p:nvPr/>
        </p:nvPicPr>
        <p:blipFill>
          <a:blip r:embed="rId1"/>
          <a:stretch/>
        </p:blipFill>
        <p:spPr>
          <a:xfrm>
            <a:off x="5508720" y="1557360"/>
            <a:ext cx="1854000" cy="2131920"/>
          </a:xfrm>
          <a:prstGeom prst="rect">
            <a:avLst/>
          </a:prstGeom>
          <a:ln w="0">
            <a:noFill/>
          </a:ln>
        </p:spPr>
      </p:pic>
      <p:sp>
        <p:nvSpPr>
          <p:cNvPr id="879" name="AutoShape 6">
            <a:hlinkClick r:id="rId2"/>
          </p:cNvPr>
          <p:cNvSpPr/>
          <p:nvPr/>
        </p:nvSpPr>
        <p:spPr>
          <a:xfrm>
            <a:off x="2050920" y="1484280"/>
            <a:ext cx="2376720" cy="1079640"/>
          </a:xfrm>
          <a:custGeom>
            <a:avLst/>
            <a:gdLst>
              <a:gd name="textAreaLeft" fmla="*/ 69840 w 2376720"/>
              <a:gd name="textAreaRight" fmla="*/ 2306880 w 23767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7542" h="21600">
                <a:moveTo>
                  <a:pt x="0" y="0"/>
                </a:moveTo>
                <a:lnTo>
                  <a:pt x="47542" y="0"/>
                </a:lnTo>
                <a:lnTo>
                  <a:pt x="47542" y="21600"/>
                </a:lnTo>
                <a:lnTo>
                  <a:pt x="0" y="21600"/>
                </a:lnTo>
                <a:close/>
              </a:path>
              <a:path fill="lightenLess" w="47542" h="21600">
                <a:moveTo>
                  <a:pt x="0" y="0"/>
                </a:moveTo>
                <a:lnTo>
                  <a:pt x="47542" y="0"/>
                </a:lnTo>
                <a:lnTo>
                  <a:pt x="46142" y="1400"/>
                </a:lnTo>
                <a:lnTo>
                  <a:pt x="1400" y="1400"/>
                </a:lnTo>
                <a:close/>
              </a:path>
              <a:path fill="darken" w="47542" h="21600">
                <a:moveTo>
                  <a:pt x="47542" y="0"/>
                </a:moveTo>
                <a:lnTo>
                  <a:pt x="47542" y="21600"/>
                </a:lnTo>
                <a:lnTo>
                  <a:pt x="46142" y="20200"/>
                </a:lnTo>
                <a:lnTo>
                  <a:pt x="46142" y="1400"/>
                </a:lnTo>
                <a:close/>
              </a:path>
              <a:path fill="darkenLess" w="47542" h="21600">
                <a:moveTo>
                  <a:pt x="4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42" y="20200"/>
                </a:lnTo>
                <a:close/>
              </a:path>
              <a:path fill="lighten" w="4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42" h="21600">
                <a:moveTo>
                  <a:pt x="16764" y="3794"/>
                </a:moveTo>
                <a:lnTo>
                  <a:pt x="30777" y="10800"/>
                </a:lnTo>
                <a:lnTo>
                  <a:pt x="16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0" name="AutoShape 7">
            <a:hlinkClick r:id="rId3"/>
          </p:cNvPr>
          <p:cNvSpPr/>
          <p:nvPr/>
        </p:nvSpPr>
        <p:spPr>
          <a:xfrm>
            <a:off x="2124000" y="400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1" name="Picture 9" descr="scriabin"/>
          <p:cNvPicPr/>
          <p:nvPr/>
        </p:nvPicPr>
        <p:blipFill>
          <a:blip r:embed="rId4"/>
          <a:stretch/>
        </p:blipFill>
        <p:spPr>
          <a:xfrm>
            <a:off x="5292720" y="3933720"/>
            <a:ext cx="2227320" cy="2470320"/>
          </a:xfrm>
          <a:prstGeom prst="rect">
            <a:avLst/>
          </a:prstGeom>
          <a:ln w="0">
            <a:noFill/>
          </a:ln>
        </p:spPr>
      </p:pic>
      <p:sp>
        <p:nvSpPr>
          <p:cNvPr id="882" name="AutoShape 10">
            <a:hlinkClick r:id="rId5"/>
          </p:cNvPr>
          <p:cNvSpPr/>
          <p:nvPr/>
        </p:nvSpPr>
        <p:spPr>
          <a:xfrm>
            <a:off x="826920" y="1700280"/>
            <a:ext cx="3745080" cy="755640"/>
          </a:xfrm>
          <a:custGeom>
            <a:avLst/>
            <a:gdLst>
              <a:gd name="textAreaLeft" fmla="*/ 48960 w 3745080"/>
              <a:gd name="textAreaRight" fmla="*/ 3696120 w 37450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107013" h="21600">
                <a:moveTo>
                  <a:pt x="0" y="0"/>
                </a:moveTo>
                <a:lnTo>
                  <a:pt x="107013" y="0"/>
                </a:lnTo>
                <a:lnTo>
                  <a:pt x="107013" y="21600"/>
                </a:lnTo>
                <a:lnTo>
                  <a:pt x="0" y="21600"/>
                </a:lnTo>
                <a:close/>
              </a:path>
              <a:path fill="lightenLess" w="107013" h="21600">
                <a:moveTo>
                  <a:pt x="0" y="0"/>
                </a:moveTo>
                <a:lnTo>
                  <a:pt x="107013" y="0"/>
                </a:lnTo>
                <a:lnTo>
                  <a:pt x="105613" y="1400"/>
                </a:lnTo>
                <a:lnTo>
                  <a:pt x="1400" y="1400"/>
                </a:lnTo>
                <a:close/>
              </a:path>
              <a:path fill="darken" w="107013" h="21600">
                <a:moveTo>
                  <a:pt x="107013" y="0"/>
                </a:moveTo>
                <a:lnTo>
                  <a:pt x="107013" y="21600"/>
                </a:lnTo>
                <a:lnTo>
                  <a:pt x="105613" y="20200"/>
                </a:lnTo>
                <a:lnTo>
                  <a:pt x="105613" y="1400"/>
                </a:lnTo>
                <a:close/>
              </a:path>
              <a:path fill="darkenLess" w="107013" h="21600">
                <a:moveTo>
                  <a:pt x="107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613" y="20200"/>
                </a:lnTo>
                <a:close/>
              </a:path>
              <a:path fill="lighten" w="107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013" h="21600">
                <a:moveTo>
                  <a:pt x="46500" y="3794"/>
                </a:moveTo>
                <a:lnTo>
                  <a:pt x="60513" y="10800"/>
                </a:lnTo>
                <a:lnTo>
                  <a:pt x="465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3" name="AutoShape 11">
            <a:hlinkClick r:id="rId6"/>
          </p:cNvPr>
          <p:cNvSpPr/>
          <p:nvPr/>
        </p:nvSpPr>
        <p:spPr>
          <a:xfrm>
            <a:off x="900000" y="4437000"/>
            <a:ext cx="3888000" cy="682560"/>
          </a:xfrm>
          <a:custGeom>
            <a:avLst/>
            <a:gdLst>
              <a:gd name="textAreaLeft" fmla="*/ 43920 w 3888000"/>
              <a:gd name="textAreaRight" fmla="*/ 3844080 w 3888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122985" h="21600">
                <a:moveTo>
                  <a:pt x="0" y="0"/>
                </a:moveTo>
                <a:lnTo>
                  <a:pt x="122985" y="0"/>
                </a:lnTo>
                <a:lnTo>
                  <a:pt x="122985" y="21600"/>
                </a:lnTo>
                <a:lnTo>
                  <a:pt x="0" y="21600"/>
                </a:lnTo>
                <a:close/>
              </a:path>
              <a:path fill="lightenLess" w="122985" h="21600">
                <a:moveTo>
                  <a:pt x="0" y="0"/>
                </a:moveTo>
                <a:lnTo>
                  <a:pt x="122985" y="0"/>
                </a:lnTo>
                <a:lnTo>
                  <a:pt x="121585" y="1400"/>
                </a:lnTo>
                <a:lnTo>
                  <a:pt x="1400" y="1400"/>
                </a:lnTo>
                <a:close/>
              </a:path>
              <a:path fill="darken" w="122985" h="21600">
                <a:moveTo>
                  <a:pt x="122985" y="0"/>
                </a:moveTo>
                <a:lnTo>
                  <a:pt x="122985" y="21600"/>
                </a:lnTo>
                <a:lnTo>
                  <a:pt x="121585" y="20200"/>
                </a:lnTo>
                <a:lnTo>
                  <a:pt x="121585" y="1400"/>
                </a:lnTo>
                <a:close/>
              </a:path>
              <a:path fill="darkenLess" w="122985" h="21600">
                <a:moveTo>
                  <a:pt x="122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85" y="20200"/>
                </a:lnTo>
                <a:close/>
              </a:path>
              <a:path fill="lighten" w="122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985" h="21600">
                <a:moveTo>
                  <a:pt x="54486" y="3794"/>
                </a:moveTo>
                <a:lnTo>
                  <a:pt x="68499" y="10800"/>
                </a:lnTo>
                <a:lnTo>
                  <a:pt x="544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4" name="WordArt 14" descr=""/>
          <p:cNvPicPr/>
          <p:nvPr/>
        </p:nvPicPr>
        <p:blipFill>
          <a:blip r:embed="rId7"/>
          <a:stretch/>
        </p:blipFill>
        <p:spPr>
          <a:xfrm>
            <a:off x="1042920" y="549360"/>
            <a:ext cx="7021440" cy="798480"/>
          </a:xfrm>
          <a:prstGeom prst="rect">
            <a:avLst/>
          </a:prstGeom>
          <a:ln w="0">
            <a:noFill/>
          </a:ln>
        </p:spPr>
      </p:pic>
      <p:sp>
        <p:nvSpPr>
          <p:cNvPr id="8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4642920" y="2420640"/>
            <a:ext cx="3961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Арнольд Шёнберг"/>
          <p:cNvPicPr/>
          <p:nvPr/>
        </p:nvPicPr>
        <p:blipFill>
          <a:blip r:embed="rId2"/>
          <a:stretch/>
        </p:blipFill>
        <p:spPr>
          <a:xfrm>
            <a:off x="971640" y="2276640"/>
            <a:ext cx="3476520" cy="4000320"/>
          </a:xfrm>
          <a:prstGeom prst="rect">
            <a:avLst/>
          </a:prstGeom>
          <a:ln w="0">
            <a:noFill/>
          </a:ln>
        </p:spPr>
      </p:pic>
      <p:pic>
        <p:nvPicPr>
          <p:cNvPr id="888" name="WordArt 5" descr=""/>
          <p:cNvPicPr/>
          <p:nvPr/>
        </p:nvPicPr>
        <p:blipFill>
          <a:blip r:embed="rId3"/>
          <a:stretch/>
        </p:blipFill>
        <p:spPr>
          <a:xfrm>
            <a:off x="2620800" y="476280"/>
            <a:ext cx="4449960" cy="1303200"/>
          </a:xfrm>
          <a:prstGeom prst="rect">
            <a:avLst/>
          </a:prstGeom>
          <a:ln w="0">
            <a:noFill/>
          </a:ln>
        </p:spPr>
      </p:pic>
      <p:sp>
        <p:nvSpPr>
          <p:cNvPr id="8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50036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92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93" name="Picture 6" descr="Шёнберг"/>
          <p:cNvPicPr/>
          <p:nvPr/>
        </p:nvPicPr>
        <p:blipFill>
          <a:blip r:embed="rId4"/>
          <a:stretch/>
        </p:blipFill>
        <p:spPr>
          <a:xfrm>
            <a:off x="5724360" y="1628640"/>
            <a:ext cx="2170440" cy="3019680"/>
          </a:xfrm>
          <a:prstGeom prst="rect">
            <a:avLst/>
          </a:prstGeom>
          <a:ln w="0">
            <a:noFill/>
          </a:ln>
        </p:spPr>
      </p:pic>
      <p:sp>
        <p:nvSpPr>
          <p:cNvPr id="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WordArt 4" descr=""/>
          <p:cNvPicPr/>
          <p:nvPr/>
        </p:nvPicPr>
        <p:blipFill>
          <a:blip r:embed="rId1"/>
          <a:stretch/>
        </p:blipFill>
        <p:spPr>
          <a:xfrm>
            <a:off x="1609560" y="1689120"/>
            <a:ext cx="6102360" cy="2724120"/>
          </a:xfrm>
          <a:prstGeom prst="rect">
            <a:avLst/>
          </a:prstGeom>
          <a:ln w="0">
            <a:noFill/>
          </a:ln>
        </p:spPr>
      </p:pic>
      <p:sp>
        <p:nvSpPr>
          <p:cNvPr id="8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5003280" y="2492280"/>
            <a:ext cx="34052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5" descr="скр1"/>
          <p:cNvPicPr/>
          <p:nvPr/>
        </p:nvPicPr>
        <p:blipFill>
          <a:blip r:embed="rId2"/>
          <a:stretch/>
        </p:blipFill>
        <p:spPr>
          <a:xfrm>
            <a:off x="900000" y="2421000"/>
            <a:ext cx="3175200" cy="3759120"/>
          </a:xfrm>
          <a:prstGeom prst="rect">
            <a:avLst/>
          </a:prstGeom>
          <a:ln w="0">
            <a:noFill/>
          </a:ln>
        </p:spPr>
      </p:pic>
      <p:pic>
        <p:nvPicPr>
          <p:cNvPr id="897" name="WordArt 6" descr=""/>
          <p:cNvPicPr/>
          <p:nvPr/>
        </p:nvPicPr>
        <p:blipFill>
          <a:blip r:embed="rId3"/>
          <a:stretch/>
        </p:blipFill>
        <p:spPr>
          <a:xfrm>
            <a:off x="2481120" y="476280"/>
            <a:ext cx="4803840" cy="1303200"/>
          </a:xfrm>
          <a:prstGeom prst="rect">
            <a:avLst/>
          </a:prstGeom>
          <a:ln w="0">
            <a:noFill/>
          </a:ln>
        </p:spPr>
      </p:pic>
      <p:sp>
        <p:nvSpPr>
          <p:cNvPr id="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43210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ское творчество представляет собой оригинальную художественную систему, в которой волевые порывы, героическая устремлённость в неведомые миры сочетаются с изысканной, хрупкой одухотворенностью – все средства в его музыке всходят к неповторимо индивидуальной организации. Автор 3 симфоний, оркестровых поэм «Мечты», «Поэма экстаза», «Прометей», фортепианного концерта и других произве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1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2" name="Picture 6" descr="Скрябин"/>
          <p:cNvPicPr/>
          <p:nvPr/>
        </p:nvPicPr>
        <p:blipFill>
          <a:blip r:embed="rId4"/>
          <a:stretch/>
        </p:blipFill>
        <p:spPr>
          <a:xfrm>
            <a:off x="5580000" y="1341360"/>
            <a:ext cx="2706840" cy="3519720"/>
          </a:xfrm>
          <a:prstGeom prst="rect">
            <a:avLst/>
          </a:prstGeom>
          <a:ln w="0">
            <a:noFill/>
          </a:ln>
        </p:spPr>
      </p:pic>
      <p:sp>
        <p:nvSpPr>
          <p:cNvPr id="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Определение на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Советский дж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4">
            <a:hlinkClick r:id="rId1"/>
          </p:cNvPr>
          <p:cNvSpPr/>
          <p:nvPr/>
        </p:nvSpPr>
        <p:spPr>
          <a:xfrm>
            <a:off x="900000" y="1989000"/>
            <a:ext cx="6121440" cy="576360"/>
          </a:xfrm>
          <a:custGeom>
            <a:avLst/>
            <a:gdLst>
              <a:gd name="textAreaLeft" fmla="*/ 37080 w 6121440"/>
              <a:gd name="textAreaRight" fmla="*/ 6084360 w 6121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281" h="21600">
                <a:moveTo>
                  <a:pt x="0" y="0"/>
                </a:moveTo>
                <a:lnTo>
                  <a:pt x="229281" y="0"/>
                </a:lnTo>
                <a:lnTo>
                  <a:pt x="229281" y="21600"/>
                </a:lnTo>
                <a:lnTo>
                  <a:pt x="0" y="21600"/>
                </a:lnTo>
                <a:close/>
              </a:path>
              <a:path fill="lightenLess" w="229281" h="21600">
                <a:moveTo>
                  <a:pt x="0" y="0"/>
                </a:moveTo>
                <a:lnTo>
                  <a:pt x="229281" y="0"/>
                </a:lnTo>
                <a:lnTo>
                  <a:pt x="227881" y="1400"/>
                </a:lnTo>
                <a:lnTo>
                  <a:pt x="1400" y="1400"/>
                </a:lnTo>
                <a:close/>
              </a:path>
              <a:path fill="darken" w="229281" h="21600">
                <a:moveTo>
                  <a:pt x="229281" y="0"/>
                </a:moveTo>
                <a:lnTo>
                  <a:pt x="229281" y="21600"/>
                </a:lnTo>
                <a:lnTo>
                  <a:pt x="227881" y="20200"/>
                </a:lnTo>
                <a:lnTo>
                  <a:pt x="227881" y="1400"/>
                </a:lnTo>
                <a:close/>
              </a:path>
              <a:path fill="darkenLess" w="229281" h="21600">
                <a:moveTo>
                  <a:pt x="229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1" y="20200"/>
                </a:lnTo>
                <a:close/>
              </a:path>
              <a:path fill="lighten" w="229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81" h="21600">
                <a:moveTo>
                  <a:pt x="107634" y="3794"/>
                </a:moveTo>
                <a:lnTo>
                  <a:pt x="121647" y="10800"/>
                </a:lnTo>
                <a:lnTo>
                  <a:pt x="1076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6" name="AutoShape 5">
            <a:hlinkClick r:id="rId2"/>
          </p:cNvPr>
          <p:cNvSpPr/>
          <p:nvPr/>
        </p:nvSpPr>
        <p:spPr>
          <a:xfrm>
            <a:off x="900000" y="256536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7542" h="21600">
                <a:moveTo>
                  <a:pt x="61764" y="3794"/>
                </a:moveTo>
                <a:lnTo>
                  <a:pt x="75777" y="10800"/>
                </a:lnTo>
                <a:lnTo>
                  <a:pt x="61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7" name="AutoShape 6">
            <a:hlinkClick r:id="rId3"/>
          </p:cNvPr>
          <p:cNvSpPr/>
          <p:nvPr/>
        </p:nvSpPr>
        <p:spPr>
          <a:xfrm>
            <a:off x="900000" y="3213000"/>
            <a:ext cx="5472360" cy="503280"/>
          </a:xfrm>
          <a:custGeom>
            <a:avLst/>
            <a:gdLst>
              <a:gd name="textAreaLeft" fmla="*/ 32400 w 5472360"/>
              <a:gd name="textAreaRight" fmla="*/ 5439960 w 547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4713" h="21600">
                <a:moveTo>
                  <a:pt x="0" y="0"/>
                </a:moveTo>
                <a:lnTo>
                  <a:pt x="234713" y="0"/>
                </a:lnTo>
                <a:lnTo>
                  <a:pt x="234713" y="21600"/>
                </a:lnTo>
                <a:lnTo>
                  <a:pt x="0" y="21600"/>
                </a:lnTo>
                <a:close/>
              </a:path>
              <a:path fill="lightenLess" w="234713" h="21600">
                <a:moveTo>
                  <a:pt x="0" y="0"/>
                </a:moveTo>
                <a:lnTo>
                  <a:pt x="234713" y="0"/>
                </a:lnTo>
                <a:lnTo>
                  <a:pt x="233313" y="1400"/>
                </a:lnTo>
                <a:lnTo>
                  <a:pt x="1400" y="1400"/>
                </a:lnTo>
                <a:close/>
              </a:path>
              <a:path fill="darken" w="234713" h="21600">
                <a:moveTo>
                  <a:pt x="234713" y="0"/>
                </a:moveTo>
                <a:lnTo>
                  <a:pt x="234713" y="21600"/>
                </a:lnTo>
                <a:lnTo>
                  <a:pt x="233313" y="20200"/>
                </a:lnTo>
                <a:lnTo>
                  <a:pt x="233313" y="1400"/>
                </a:lnTo>
                <a:close/>
              </a:path>
              <a:path fill="darkenLess" w="234713" h="21600">
                <a:moveTo>
                  <a:pt x="2347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13" y="20200"/>
                </a:lnTo>
                <a:close/>
              </a:path>
              <a:path fill="lighten" w="2347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13" h="21600">
                <a:moveTo>
                  <a:pt x="110350" y="3794"/>
                </a:moveTo>
                <a:lnTo>
                  <a:pt x="124363" y="10800"/>
                </a:lnTo>
                <a:lnTo>
                  <a:pt x="1103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8" name="Picture 8" descr="джаз 1"/>
          <p:cNvPicPr/>
          <p:nvPr/>
        </p:nvPicPr>
        <p:blipFill>
          <a:blip r:embed="rId4"/>
          <a:stretch/>
        </p:blipFill>
        <p:spPr>
          <a:xfrm>
            <a:off x="5435640" y="4221000"/>
            <a:ext cx="2936880" cy="2138400"/>
          </a:xfrm>
          <a:prstGeom prst="rect">
            <a:avLst/>
          </a:prstGeom>
          <a:ln w="0">
            <a:noFill/>
          </a:ln>
        </p:spPr>
      </p:pic>
      <p:pic>
        <p:nvPicPr>
          <p:cNvPr id="909" name="WordArt 9" descr=""/>
          <p:cNvPicPr/>
          <p:nvPr/>
        </p:nvPicPr>
        <p:blipFill>
          <a:blip r:embed="rId5"/>
          <a:stretch/>
        </p:blipFill>
        <p:spPr>
          <a:xfrm>
            <a:off x="3376440" y="579600"/>
            <a:ext cx="2706840" cy="1163520"/>
          </a:xfrm>
          <a:prstGeom prst="rect">
            <a:avLst/>
          </a:prstGeom>
          <a:ln w="0">
            <a:noFill/>
          </a:ln>
        </p:spPr>
      </p:pic>
      <p:sp>
        <p:nvSpPr>
          <p:cNvPr id="9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9e6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1402920" y="2349000"/>
            <a:ext cx="604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– 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WordArt 5" descr=""/>
          <p:cNvPicPr/>
          <p:nvPr/>
        </p:nvPicPr>
        <p:blipFill>
          <a:blip r:embed="rId1"/>
          <a:stretch/>
        </p:blipFill>
        <p:spPr>
          <a:xfrm>
            <a:off x="858960" y="1011240"/>
            <a:ext cx="7437240" cy="725400"/>
          </a:xfrm>
          <a:prstGeom prst="rect">
            <a:avLst/>
          </a:prstGeom>
          <a:ln w="0">
            <a:noFill/>
          </a:ln>
        </p:spPr>
      </p:pic>
      <p:sp>
        <p:nvSpPr>
          <p:cNvPr id="9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54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16" name="Picture 4" descr="Джаз 2"/>
          <p:cNvPicPr/>
          <p:nvPr/>
        </p:nvPicPr>
        <p:blipFill>
          <a:blip r:embed="rId2"/>
          <a:stretch/>
        </p:blipFill>
        <p:spPr>
          <a:xfrm>
            <a:off x="6084720" y="1700280"/>
            <a:ext cx="2551320" cy="3117960"/>
          </a:xfrm>
          <a:prstGeom prst="rect">
            <a:avLst/>
          </a:prstGeom>
          <a:ln w="0">
            <a:noFill/>
          </a:ln>
        </p:spPr>
      </p:pic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54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Picture 4" descr="Утёсов"/>
          <p:cNvPicPr/>
          <p:nvPr/>
        </p:nvPicPr>
        <p:blipFill>
          <a:blip r:embed="rId1"/>
          <a:stretch/>
        </p:blipFill>
        <p:spPr>
          <a:xfrm>
            <a:off x="6372360" y="1989000"/>
            <a:ext cx="1914480" cy="28972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5"/>
          <p:cNvSpPr/>
          <p:nvPr/>
        </p:nvSpPr>
        <p:spPr>
          <a:xfrm>
            <a:off x="6376320" y="4941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Дунаевский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21" name="AutoShape 6">
            <a:hlinkClick r:id="rId2"/>
          </p:cNvPr>
          <p:cNvSpPr/>
          <p:nvPr/>
        </p:nvSpPr>
        <p:spPr>
          <a:xfrm>
            <a:off x="7596360" y="5661000"/>
            <a:ext cx="1547640" cy="1197000"/>
          </a:xfrm>
          <a:custGeom>
            <a:avLst/>
            <a:gdLst>
              <a:gd name="textAreaLeft" fmla="*/ 77400 w 1547640"/>
              <a:gd name="textAreaRight" fmla="*/ 1470240 w 154764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7925" h="21600">
                <a:moveTo>
                  <a:pt x="0" y="0"/>
                </a:moveTo>
                <a:lnTo>
                  <a:pt x="27925" y="0"/>
                </a:lnTo>
                <a:lnTo>
                  <a:pt x="27925" y="21600"/>
                </a:lnTo>
                <a:lnTo>
                  <a:pt x="0" y="21600"/>
                </a:lnTo>
                <a:close/>
              </a:path>
              <a:path fill="lightenLess" w="27925" h="21600">
                <a:moveTo>
                  <a:pt x="0" y="0"/>
                </a:moveTo>
                <a:lnTo>
                  <a:pt x="27925" y="0"/>
                </a:lnTo>
                <a:lnTo>
                  <a:pt x="26525" y="1400"/>
                </a:lnTo>
                <a:lnTo>
                  <a:pt x="1400" y="1400"/>
                </a:lnTo>
                <a:close/>
              </a:path>
              <a:path fill="darken" w="27925" h="21600">
                <a:moveTo>
                  <a:pt x="27925" y="0"/>
                </a:moveTo>
                <a:lnTo>
                  <a:pt x="27925" y="21600"/>
                </a:lnTo>
                <a:lnTo>
                  <a:pt x="26525" y="20200"/>
                </a:lnTo>
                <a:lnTo>
                  <a:pt x="26525" y="1400"/>
                </a:lnTo>
                <a:close/>
              </a:path>
              <a:path fill="darkenLess" w="27925" h="21600">
                <a:moveTo>
                  <a:pt x="27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5" y="20200"/>
                </a:lnTo>
                <a:close/>
              </a:path>
              <a:path fill="lighten" w="27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5" h="21600">
                <a:moveTo>
                  <a:pt x="13963" y="3837"/>
                </a:moveTo>
                <a:lnTo>
                  <a:pt x="16539" y="6448"/>
                </a:ln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lnTo>
                  <a:pt x="20926" y="10800"/>
                </a:lnTo>
                <a:lnTo>
                  <a:pt x="19272" y="10800"/>
                </a:lnTo>
                <a:lnTo>
                  <a:pt x="19272" y="17989"/>
                </a:lnTo>
                <a:lnTo>
                  <a:pt x="8653" y="17989"/>
                </a:lnTo>
                <a:lnTo>
                  <a:pt x="8653" y="10800"/>
                </a:lnTo>
                <a:lnTo>
                  <a:pt x="7000" y="10800"/>
                </a:lnTo>
                <a:close/>
              </a:path>
              <a:path fill="darkenLess" w="27925" h="21600">
                <a:moveTo>
                  <a:pt x="16539" y="6448"/>
                </a:move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close/>
              </a:path>
              <a:path fill="darkenLess" w="27925" h="21600">
                <a:moveTo>
                  <a:pt x="13040" y="14299"/>
                </a:moveTo>
                <a:lnTo>
                  <a:pt x="14885" y="14299"/>
                </a:lnTo>
                <a:lnTo>
                  <a:pt x="14885" y="17989"/>
                </a:lnTo>
                <a:lnTo>
                  <a:pt x="19272" y="17989"/>
                </a:lnTo>
                <a:lnTo>
                  <a:pt x="19272" y="10800"/>
                </a:lnTo>
                <a:lnTo>
                  <a:pt x="8653" y="10800"/>
                </a:lnTo>
                <a:lnTo>
                  <a:pt x="8653" y="17989"/>
                </a:lnTo>
                <a:lnTo>
                  <a:pt x="1304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22" name="WordArt 7" descr=""/>
          <p:cNvPicPr/>
          <p:nvPr/>
        </p:nvPicPr>
        <p:blipFill>
          <a:blip r:embed="rId3"/>
          <a:stretch/>
        </p:blipFill>
        <p:spPr>
          <a:xfrm>
            <a:off x="2548080" y="542880"/>
            <a:ext cx="4389120" cy="1266840"/>
          </a:xfrm>
          <a:prstGeom prst="rect">
            <a:avLst/>
          </a:prstGeom>
          <a:ln w="0">
            <a:noFill/>
          </a:ln>
        </p:spPr>
      </p:pic>
      <p:sp>
        <p:nvSpPr>
          <p:cNvPr id="9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3779640" y="2681280"/>
            <a:ext cx="5003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Picture 9" descr="Гершвин"/>
          <p:cNvPicPr/>
          <p:nvPr/>
        </p:nvPicPr>
        <p:blipFill>
          <a:blip r:embed="rId1"/>
          <a:stretch/>
        </p:blipFill>
        <p:spPr>
          <a:xfrm>
            <a:off x="755640" y="2349360"/>
            <a:ext cx="2624040" cy="3888000"/>
          </a:xfrm>
          <a:prstGeom prst="rect">
            <a:avLst/>
          </a:prstGeom>
          <a:ln w="0">
            <a:noFill/>
          </a:ln>
        </p:spPr>
      </p:pic>
      <p:pic>
        <p:nvPicPr>
          <p:cNvPr id="926" name="WordArt 10" descr=""/>
          <p:cNvPicPr/>
          <p:nvPr/>
        </p:nvPicPr>
        <p:blipFill>
          <a:blip r:embed="rId2"/>
          <a:stretch/>
        </p:blipFill>
        <p:spPr>
          <a:xfrm>
            <a:off x="1474920" y="762120"/>
            <a:ext cx="6821280" cy="987480"/>
          </a:xfrm>
          <a:prstGeom prst="rect">
            <a:avLst/>
          </a:prstGeom>
          <a:ln w="0">
            <a:noFill/>
          </a:ln>
        </p:spPr>
      </p:pic>
      <p:sp>
        <p:nvSpPr>
          <p:cNvPr id="9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250560" y="809280"/>
            <a:ext cx="4825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0" name="Picture 4" descr="PH10710"/>
          <p:cNvPicPr/>
          <p:nvPr/>
        </p:nvPicPr>
        <p:blipFill>
          <a:blip r:embed="rId2"/>
          <a:stretch/>
        </p:blipFill>
        <p:spPr>
          <a:xfrm>
            <a:off x="5292720" y="1125360"/>
            <a:ext cx="3465360" cy="4146840"/>
          </a:xfrm>
          <a:prstGeom prst="rect">
            <a:avLst/>
          </a:prstGeom>
          <a:ln w="0">
            <a:noFill/>
          </a:ln>
        </p:spPr>
      </p:pic>
      <p:sp>
        <p:nvSpPr>
          <p:cNvPr id="9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692000" y="21333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AutoShape 4">
            <a:hlinkClick r:id="rId1"/>
          </p:cNvPr>
          <p:cNvSpPr/>
          <p:nvPr/>
        </p:nvSpPr>
        <p:spPr>
          <a:xfrm>
            <a:off x="2195640" y="206064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34" name="AutoShape 5">
            <a:hlinkClick r:id="rId2"/>
          </p:cNvPr>
          <p:cNvSpPr/>
          <p:nvPr/>
        </p:nvSpPr>
        <p:spPr>
          <a:xfrm>
            <a:off x="2195640" y="278136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5" name="Picture 6" descr="Авангард"/>
          <p:cNvPicPr/>
          <p:nvPr/>
        </p:nvPicPr>
        <p:blipFill>
          <a:blip r:embed="rId3"/>
          <a:stretch/>
        </p:blipFill>
        <p:spPr>
          <a:xfrm>
            <a:off x="4932360" y="3716280"/>
            <a:ext cx="3436920" cy="2197080"/>
          </a:xfrm>
          <a:prstGeom prst="rect">
            <a:avLst/>
          </a:prstGeom>
          <a:ln w="0">
            <a:noFill/>
          </a:ln>
        </p:spPr>
      </p:pic>
      <p:pic>
        <p:nvPicPr>
          <p:cNvPr id="936" name="WordArt 7" descr=""/>
          <p:cNvPicPr/>
          <p:nvPr/>
        </p:nvPicPr>
        <p:blipFill>
          <a:blip r:embed="rId4"/>
          <a:stretch/>
        </p:blipFill>
        <p:spPr>
          <a:xfrm>
            <a:off x="3267000" y="828720"/>
            <a:ext cx="4432320" cy="866880"/>
          </a:xfrm>
          <a:prstGeom prst="rect">
            <a:avLst/>
          </a:prstGeom>
          <a:ln w="0">
            <a:noFill/>
          </a:ln>
        </p:spPr>
      </p:pic>
      <p:sp>
        <p:nvSpPr>
          <p:cNvPr id="9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4427280" y="1700280"/>
            <a:ext cx="4259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4" descr="Авангард 2"/>
          <p:cNvPicPr/>
          <p:nvPr/>
        </p:nvPicPr>
        <p:blipFill>
          <a:blip r:embed="rId1"/>
          <a:stretch/>
        </p:blipFill>
        <p:spPr>
          <a:xfrm>
            <a:off x="1403280" y="2276640"/>
            <a:ext cx="2656080" cy="3186000"/>
          </a:xfrm>
          <a:prstGeom prst="rect">
            <a:avLst/>
          </a:prstGeom>
          <a:ln w="0">
            <a:noFill/>
          </a:ln>
        </p:spPr>
      </p:pic>
      <p:pic>
        <p:nvPicPr>
          <p:cNvPr id="940" name="WordArt 5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6491160" cy="701640"/>
          </a:xfrm>
          <a:prstGeom prst="rect">
            <a:avLst/>
          </a:prstGeom>
          <a:ln w="0">
            <a:noFill/>
          </a:ln>
        </p:spPr>
      </p:pic>
      <p:sp>
        <p:nvSpPr>
          <p:cNvPr id="9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сновные направления в музыке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XX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ека. 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2" name="Picture 21" descr="the_first_piano_lesson"/>
          <p:cNvPicPr/>
          <p:nvPr/>
        </p:nvPicPr>
        <p:blipFill>
          <a:blip r:embed="rId1"/>
          <a:stretch/>
        </p:blipFill>
        <p:spPr>
          <a:xfrm>
            <a:off x="5292720" y="2205000"/>
            <a:ext cx="2987640" cy="399276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2">
            <a:hlinkClick r:id="rId2"/>
          </p:cNvPr>
          <p:cNvSpPr/>
          <p:nvPr/>
        </p:nvSpPr>
        <p:spPr>
          <a:xfrm>
            <a:off x="1476360" y="1916280"/>
            <a:ext cx="1727280" cy="577800"/>
          </a:xfrm>
          <a:custGeom>
            <a:avLst/>
            <a:gdLst>
              <a:gd name="textAreaLeft" fmla="*/ 37440 w 1727280"/>
              <a:gd name="textAreaRight" fmla="*/ 1689840 w 1727280"/>
              <a:gd name="textAreaTop" fmla="*/ 37440 h 577800"/>
              <a:gd name="textAreaBottom" fmla="*/ 540360 h 577800"/>
            </a:gdLst>
            <a:ahLst/>
            <a:rect l="textAreaLeft" t="textAreaTop" r="textAreaRight" b="textAreaBottom"/>
            <a:pathLst>
              <a:path w="64544" h="21600">
                <a:moveTo>
                  <a:pt x="0" y="0"/>
                </a:moveTo>
                <a:lnTo>
                  <a:pt x="64544" y="0"/>
                </a:lnTo>
                <a:lnTo>
                  <a:pt x="64544" y="21600"/>
                </a:lnTo>
                <a:lnTo>
                  <a:pt x="0" y="21600"/>
                </a:lnTo>
                <a:close/>
              </a:path>
              <a:path fill="lightenLess" w="64544" h="21600">
                <a:moveTo>
                  <a:pt x="0" y="0"/>
                </a:moveTo>
                <a:lnTo>
                  <a:pt x="64544" y="0"/>
                </a:lnTo>
                <a:lnTo>
                  <a:pt x="63144" y="1400"/>
                </a:lnTo>
                <a:lnTo>
                  <a:pt x="1400" y="1400"/>
                </a:lnTo>
                <a:close/>
              </a:path>
              <a:path fill="darken" w="64544" h="21600">
                <a:moveTo>
                  <a:pt x="64544" y="0"/>
                </a:moveTo>
                <a:lnTo>
                  <a:pt x="64544" y="21600"/>
                </a:lnTo>
                <a:lnTo>
                  <a:pt x="63144" y="20200"/>
                </a:lnTo>
                <a:lnTo>
                  <a:pt x="63144" y="1400"/>
                </a:lnTo>
                <a:close/>
              </a:path>
              <a:path fill="darkenLess" w="64544" h="21600">
                <a:moveTo>
                  <a:pt x="64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44" y="20200"/>
                </a:lnTo>
                <a:close/>
              </a:path>
              <a:path fill="lighten" w="64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44" h="21600">
                <a:moveTo>
                  <a:pt x="25266" y="3794"/>
                </a:moveTo>
                <a:lnTo>
                  <a:pt x="39279" y="10800"/>
                </a:lnTo>
                <a:lnTo>
                  <a:pt x="252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04" name="AutoShape 23">
            <a:hlinkClick r:id="rId3"/>
          </p:cNvPr>
          <p:cNvSpPr/>
          <p:nvPr/>
        </p:nvSpPr>
        <p:spPr>
          <a:xfrm>
            <a:off x="1403280" y="2637000"/>
            <a:ext cx="2881440" cy="2376360"/>
          </a:xfrm>
          <a:custGeom>
            <a:avLst/>
            <a:gdLst>
              <a:gd name="textAreaLeft" fmla="*/ 153720 w 2881440"/>
              <a:gd name="textAreaRight" fmla="*/ 2727720 w 2881440"/>
              <a:gd name="textAreaTop" fmla="*/ 153720 h 2376360"/>
              <a:gd name="textAreaBottom" fmla="*/ 2222640 h 2376360"/>
            </a:gdLst>
            <a:ahLst/>
            <a:rect l="textAreaLeft" t="textAreaTop" r="textAreaRight" b="textAreaBottom"/>
            <a:pathLst>
              <a:path w="26190" h="21600">
                <a:moveTo>
                  <a:pt x="0" y="0"/>
                </a:moveTo>
                <a:lnTo>
                  <a:pt x="26190" y="0"/>
                </a:lnTo>
                <a:lnTo>
                  <a:pt x="26190" y="21600"/>
                </a:lnTo>
                <a:lnTo>
                  <a:pt x="0" y="21600"/>
                </a:lnTo>
                <a:close/>
              </a:path>
              <a:path fill="lightenLess" w="26190" h="21600">
                <a:moveTo>
                  <a:pt x="0" y="0"/>
                </a:moveTo>
                <a:lnTo>
                  <a:pt x="26190" y="0"/>
                </a:lnTo>
                <a:lnTo>
                  <a:pt x="24790" y="1400"/>
                </a:lnTo>
                <a:lnTo>
                  <a:pt x="1400" y="1400"/>
                </a:lnTo>
                <a:close/>
              </a:path>
              <a:path fill="darken" w="26190" h="21600">
                <a:moveTo>
                  <a:pt x="26190" y="0"/>
                </a:moveTo>
                <a:lnTo>
                  <a:pt x="26190" y="21600"/>
                </a:lnTo>
                <a:lnTo>
                  <a:pt x="24790" y="20200"/>
                </a:lnTo>
                <a:lnTo>
                  <a:pt x="24790" y="1400"/>
                </a:lnTo>
                <a:close/>
              </a:path>
              <a:path fill="darkenLess" w="26190" h="21600">
                <a:moveTo>
                  <a:pt x="26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90" y="20200"/>
                </a:lnTo>
                <a:close/>
              </a:path>
              <a:path fill="lighten" w="26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90" h="21600">
                <a:moveTo>
                  <a:pt x="6089" y="3794"/>
                </a:moveTo>
                <a:lnTo>
                  <a:pt x="20102" y="10800"/>
                </a:lnTo>
                <a:lnTo>
                  <a:pt x="60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5" name="WordArt 24" descr=""/>
          <p:cNvPicPr/>
          <p:nvPr/>
        </p:nvPicPr>
        <p:blipFill>
          <a:blip r:embed="rId4"/>
          <a:stretch/>
        </p:blipFill>
        <p:spPr>
          <a:xfrm>
            <a:off x="1401840" y="901800"/>
            <a:ext cx="3346200" cy="66492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4859280" y="1483920"/>
            <a:ext cx="4043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AutoShape 4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44" name="Picture 5" descr="Шнитке 1"/>
          <p:cNvPicPr/>
          <p:nvPr/>
        </p:nvPicPr>
        <p:blipFill>
          <a:blip r:embed="rId2"/>
          <a:stretch/>
        </p:blipFill>
        <p:spPr>
          <a:xfrm>
            <a:off x="1979640" y="1773360"/>
            <a:ext cx="2335320" cy="269388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6"/>
          <p:cNvSpPr/>
          <p:nvPr/>
        </p:nvSpPr>
        <p:spPr>
          <a:xfrm>
            <a:off x="2054160" y="458064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фред Шнитк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1547640" y="1916280"/>
            <a:ext cx="318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4" descr="b_4407"/>
          <p:cNvPicPr/>
          <p:nvPr/>
        </p:nvPicPr>
        <p:blipFill>
          <a:blip r:embed="rId1"/>
          <a:stretch/>
        </p:blipFill>
        <p:spPr>
          <a:xfrm>
            <a:off x="5003640" y="198900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5" descr="stockhausen"/>
          <p:cNvPicPr/>
          <p:nvPr/>
        </p:nvPicPr>
        <p:blipFill>
          <a:blip r:embed="rId2"/>
          <a:stretch/>
        </p:blipFill>
        <p:spPr>
          <a:xfrm>
            <a:off x="5003640" y="3933720"/>
            <a:ext cx="2428920" cy="1846440"/>
          </a:xfrm>
          <a:prstGeom prst="rect">
            <a:avLst/>
          </a:prstGeom>
          <a:ln w="0">
            <a:noFill/>
          </a:ln>
        </p:spPr>
      </p:pic>
      <p:sp>
        <p:nvSpPr>
          <p:cNvPr id="950" name="AutoShape 6">
            <a:hlinkClick r:id="rId3"/>
          </p:cNvPr>
          <p:cNvSpPr/>
          <p:nvPr/>
        </p:nvSpPr>
        <p:spPr>
          <a:xfrm>
            <a:off x="2268360" y="1916280"/>
            <a:ext cx="1582920" cy="1042920"/>
          </a:xfrm>
          <a:custGeom>
            <a:avLst/>
            <a:gdLst>
              <a:gd name="textAreaLeft" fmla="*/ 67320 w 1582920"/>
              <a:gd name="textAreaRight" fmla="*/ 1515600 w 158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2780" h="21600">
                <a:moveTo>
                  <a:pt x="0" y="0"/>
                </a:moveTo>
                <a:lnTo>
                  <a:pt x="32780" y="0"/>
                </a:lnTo>
                <a:lnTo>
                  <a:pt x="32780" y="21600"/>
                </a:lnTo>
                <a:lnTo>
                  <a:pt x="0" y="21600"/>
                </a:lnTo>
                <a:close/>
              </a:path>
              <a:path fill="lightenLess" w="32780" h="21600">
                <a:moveTo>
                  <a:pt x="0" y="0"/>
                </a:moveTo>
                <a:lnTo>
                  <a:pt x="32780" y="0"/>
                </a:lnTo>
                <a:lnTo>
                  <a:pt x="31380" y="1400"/>
                </a:lnTo>
                <a:lnTo>
                  <a:pt x="1400" y="1400"/>
                </a:lnTo>
                <a:close/>
              </a:path>
              <a:path fill="darken" w="32780" h="21600">
                <a:moveTo>
                  <a:pt x="32780" y="0"/>
                </a:moveTo>
                <a:lnTo>
                  <a:pt x="32780" y="21600"/>
                </a:lnTo>
                <a:lnTo>
                  <a:pt x="31380" y="20200"/>
                </a:lnTo>
                <a:lnTo>
                  <a:pt x="31380" y="1400"/>
                </a:lnTo>
                <a:close/>
              </a:path>
              <a:path fill="darkenLess" w="32780" h="21600">
                <a:moveTo>
                  <a:pt x="32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0" y="20200"/>
                </a:lnTo>
                <a:close/>
              </a:path>
              <a:path fill="lighten" w="32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0" h="21600">
                <a:moveTo>
                  <a:pt x="9384" y="3794"/>
                </a:moveTo>
                <a:lnTo>
                  <a:pt x="23397" y="10800"/>
                </a:lnTo>
                <a:lnTo>
                  <a:pt x="93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51" name="AutoShape 7">
            <a:hlinkClick r:id="rId4"/>
          </p:cNvPr>
          <p:cNvSpPr/>
          <p:nvPr/>
        </p:nvSpPr>
        <p:spPr>
          <a:xfrm>
            <a:off x="2340000" y="4437000"/>
            <a:ext cx="1944720" cy="1224000"/>
          </a:xfrm>
          <a:custGeom>
            <a:avLst/>
            <a:gdLst>
              <a:gd name="textAreaLeft" fmla="*/ 79200 w 1944720"/>
              <a:gd name="textAreaRight" fmla="*/ 1865520 w 1944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4315" h="21600">
                <a:moveTo>
                  <a:pt x="0" y="0"/>
                </a:moveTo>
                <a:lnTo>
                  <a:pt x="34315" y="0"/>
                </a:lnTo>
                <a:lnTo>
                  <a:pt x="34315" y="21600"/>
                </a:lnTo>
                <a:lnTo>
                  <a:pt x="0" y="21600"/>
                </a:lnTo>
                <a:close/>
              </a:path>
              <a:path fill="lightenLess" w="34315" h="21600">
                <a:moveTo>
                  <a:pt x="0" y="0"/>
                </a:moveTo>
                <a:lnTo>
                  <a:pt x="34315" y="0"/>
                </a:lnTo>
                <a:lnTo>
                  <a:pt x="32915" y="1400"/>
                </a:lnTo>
                <a:lnTo>
                  <a:pt x="1400" y="1400"/>
                </a:lnTo>
                <a:close/>
              </a:path>
              <a:path fill="darken" w="34315" h="21600">
                <a:moveTo>
                  <a:pt x="34315" y="0"/>
                </a:moveTo>
                <a:lnTo>
                  <a:pt x="34315" y="21600"/>
                </a:lnTo>
                <a:lnTo>
                  <a:pt x="32915" y="20200"/>
                </a:lnTo>
                <a:lnTo>
                  <a:pt x="32915" y="1400"/>
                </a:lnTo>
                <a:close/>
              </a:path>
              <a:path fill="darkenLess" w="34315" h="21600">
                <a:moveTo>
                  <a:pt x="34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15" y="20200"/>
                </a:lnTo>
                <a:close/>
              </a:path>
              <a:path fill="lighten" w="34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315" h="21600">
                <a:moveTo>
                  <a:pt x="10151" y="3794"/>
                </a:moveTo>
                <a:lnTo>
                  <a:pt x="24164" y="10800"/>
                </a:lnTo>
                <a:lnTo>
                  <a:pt x="1015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52" name="WordArt 8" descr=""/>
          <p:cNvPicPr/>
          <p:nvPr/>
        </p:nvPicPr>
        <p:blipFill>
          <a:blip r:embed="rId5"/>
          <a:stretch/>
        </p:blipFill>
        <p:spPr>
          <a:xfrm>
            <a:off x="1908000" y="835200"/>
            <a:ext cx="6602760" cy="695160"/>
          </a:xfrm>
          <a:prstGeom prst="rect">
            <a:avLst/>
          </a:prstGeom>
          <a:ln w="0">
            <a:noFill/>
          </a:ln>
        </p:spPr>
      </p:pic>
      <p:sp>
        <p:nvSpPr>
          <p:cNvPr id="9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932360" y="2205000"/>
            <a:ext cx="36734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4" descr="b_4407"/>
          <p:cNvPicPr/>
          <p:nvPr/>
        </p:nvPicPr>
        <p:blipFill>
          <a:blip r:embed="rId1"/>
          <a:stretch/>
        </p:blipFill>
        <p:spPr>
          <a:xfrm>
            <a:off x="468360" y="2349360"/>
            <a:ext cx="4246560" cy="3184560"/>
          </a:xfrm>
          <a:prstGeom prst="rect">
            <a:avLst/>
          </a:prstGeom>
          <a:ln w="0">
            <a:noFill/>
          </a:ln>
        </p:spPr>
      </p:pic>
      <p:pic>
        <p:nvPicPr>
          <p:cNvPr id="956" name="WordArt 5" descr=""/>
          <p:cNvPicPr/>
          <p:nvPr/>
        </p:nvPicPr>
        <p:blipFill>
          <a:blip r:embed="rId2"/>
          <a:stretch/>
        </p:blipFill>
        <p:spPr>
          <a:xfrm>
            <a:off x="2554200" y="689040"/>
            <a:ext cx="4254480" cy="1311120"/>
          </a:xfrm>
          <a:prstGeom prst="rect">
            <a:avLst/>
          </a:prstGeom>
          <a:ln w="0">
            <a:noFill/>
          </a:ln>
        </p:spPr>
      </p:pic>
      <p:sp>
        <p:nvSpPr>
          <p:cNvPr id="9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4427280" y="1125360"/>
            <a:ext cx="4043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AutoShape 5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0" name="Picture 6" descr="Шнитке"/>
          <p:cNvPicPr/>
          <p:nvPr/>
        </p:nvPicPr>
        <p:blipFill>
          <a:blip r:embed="rId2"/>
          <a:stretch/>
        </p:blipFill>
        <p:spPr>
          <a:xfrm>
            <a:off x="1332000" y="2276640"/>
            <a:ext cx="2666880" cy="3022560"/>
          </a:xfrm>
          <a:prstGeom prst="rect">
            <a:avLst/>
          </a:prstGeom>
          <a:ln w="0">
            <a:noFill/>
          </a:ln>
        </p:spPr>
      </p:pic>
      <p:sp>
        <p:nvSpPr>
          <p:cNvPr id="9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5219280" y="2349360"/>
            <a:ext cx="3745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5" descr="Карлхайнц Штокхаузен (Stockhausen)"/>
          <p:cNvPicPr/>
          <p:nvPr/>
        </p:nvPicPr>
        <p:blipFill>
          <a:blip r:embed="rId1"/>
          <a:stretch/>
        </p:blipFill>
        <p:spPr>
          <a:xfrm>
            <a:off x="900000" y="2565360"/>
            <a:ext cx="3990960" cy="3033720"/>
          </a:xfrm>
          <a:prstGeom prst="rect">
            <a:avLst/>
          </a:prstGeom>
          <a:ln w="0">
            <a:noFill/>
          </a:ln>
        </p:spPr>
      </p:pic>
      <p:pic>
        <p:nvPicPr>
          <p:cNvPr id="964" name="WordArt 6" descr=""/>
          <p:cNvPicPr/>
          <p:nvPr/>
        </p:nvPicPr>
        <p:blipFill>
          <a:blip r:embed="rId2"/>
          <a:stretch/>
        </p:blipFill>
        <p:spPr>
          <a:xfrm>
            <a:off x="2266920" y="835200"/>
            <a:ext cx="5737320" cy="1304640"/>
          </a:xfrm>
          <a:prstGeom prst="rect">
            <a:avLst/>
          </a:prstGeom>
          <a:ln w="0">
            <a:noFill/>
          </a:ln>
        </p:spPr>
      </p:pic>
      <p:sp>
        <p:nvSpPr>
          <p:cNvPr id="9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8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8" name="Picture 9" descr="штокх"/>
          <p:cNvPicPr/>
          <p:nvPr/>
        </p:nvPicPr>
        <p:blipFill>
          <a:blip r:embed="rId1"/>
          <a:stretch/>
        </p:blipFill>
        <p:spPr>
          <a:xfrm>
            <a:off x="1547640" y="2205000"/>
            <a:ext cx="2011680" cy="2816280"/>
          </a:xfrm>
          <a:prstGeom prst="rect">
            <a:avLst/>
          </a:prstGeom>
          <a:ln w="0">
            <a:noFill/>
          </a:ln>
        </p:spPr>
      </p:pic>
      <p:sp>
        <p:nvSpPr>
          <p:cNvPr id="9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130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Описание на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"/>
          <p:cNvSpPr/>
          <p:nvPr/>
        </p:nvSpPr>
        <p:spPr>
          <a:xfrm>
            <a:off x="1187280" y="1916280"/>
            <a:ext cx="4537080" cy="504720"/>
          </a:xfrm>
          <a:custGeom>
            <a:avLst/>
            <a:gdLst>
              <a:gd name="textAreaLeft" fmla="*/ 32400 w 4537080"/>
              <a:gd name="textAreaRight" fmla="*/ 4504680 w 4537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94046" h="21600">
                <a:moveTo>
                  <a:pt x="0" y="0"/>
                </a:moveTo>
                <a:lnTo>
                  <a:pt x="194046" y="0"/>
                </a:lnTo>
                <a:lnTo>
                  <a:pt x="194046" y="21600"/>
                </a:lnTo>
                <a:lnTo>
                  <a:pt x="0" y="21600"/>
                </a:lnTo>
                <a:close/>
              </a:path>
              <a:path fill="lightenLess" w="194046" h="21600">
                <a:moveTo>
                  <a:pt x="0" y="0"/>
                </a:moveTo>
                <a:lnTo>
                  <a:pt x="194046" y="0"/>
                </a:lnTo>
                <a:lnTo>
                  <a:pt x="192646" y="1400"/>
                </a:lnTo>
                <a:lnTo>
                  <a:pt x="1400" y="1400"/>
                </a:lnTo>
                <a:close/>
              </a:path>
              <a:path fill="darken" w="194046" h="21600">
                <a:moveTo>
                  <a:pt x="194046" y="0"/>
                </a:moveTo>
                <a:lnTo>
                  <a:pt x="194046" y="21600"/>
                </a:lnTo>
                <a:lnTo>
                  <a:pt x="192646" y="20200"/>
                </a:lnTo>
                <a:lnTo>
                  <a:pt x="192646" y="1400"/>
                </a:lnTo>
                <a:close/>
              </a:path>
              <a:path fill="darkenLess" w="194046" h="21600">
                <a:moveTo>
                  <a:pt x="19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646" y="20200"/>
                </a:lnTo>
                <a:close/>
              </a:path>
              <a:path fill="lighten" w="19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4046" h="21600">
                <a:moveTo>
                  <a:pt x="90016" y="3794"/>
                </a:moveTo>
                <a:lnTo>
                  <a:pt x="104029" y="10800"/>
                </a:lnTo>
                <a:lnTo>
                  <a:pt x="900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1187280" y="2637000"/>
            <a:ext cx="4680000" cy="431640"/>
          </a:xfrm>
          <a:custGeom>
            <a:avLst/>
            <a:gdLst>
              <a:gd name="textAreaLeft" fmla="*/ 27720 w 4680000"/>
              <a:gd name="textAreaRight" fmla="*/ 4652280 w 468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018" h="21600">
                <a:moveTo>
                  <a:pt x="0" y="0"/>
                </a:moveTo>
                <a:lnTo>
                  <a:pt x="234018" y="0"/>
                </a:lnTo>
                <a:lnTo>
                  <a:pt x="234018" y="21600"/>
                </a:lnTo>
                <a:lnTo>
                  <a:pt x="0" y="21600"/>
                </a:lnTo>
                <a:close/>
              </a:path>
              <a:path fill="lightenLess" w="234018" h="21600">
                <a:moveTo>
                  <a:pt x="0" y="0"/>
                </a:moveTo>
                <a:lnTo>
                  <a:pt x="234018" y="0"/>
                </a:lnTo>
                <a:lnTo>
                  <a:pt x="232618" y="1400"/>
                </a:lnTo>
                <a:lnTo>
                  <a:pt x="1400" y="1400"/>
                </a:lnTo>
                <a:close/>
              </a:path>
              <a:path fill="darken" w="234018" h="21600">
                <a:moveTo>
                  <a:pt x="234018" y="0"/>
                </a:moveTo>
                <a:lnTo>
                  <a:pt x="234018" y="21600"/>
                </a:lnTo>
                <a:lnTo>
                  <a:pt x="232618" y="20200"/>
                </a:lnTo>
                <a:lnTo>
                  <a:pt x="232618" y="1400"/>
                </a:lnTo>
                <a:close/>
              </a:path>
              <a:path fill="darkenLess" w="234018" h="21600">
                <a:moveTo>
                  <a:pt x="234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18" y="20200"/>
                </a:lnTo>
                <a:close/>
              </a:path>
              <a:path fill="lighten" w="234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8" h="21600">
                <a:moveTo>
                  <a:pt x="110003" y="3794"/>
                </a:moveTo>
                <a:lnTo>
                  <a:pt x="124015" y="10800"/>
                </a:lnTo>
                <a:lnTo>
                  <a:pt x="11000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3" name="Picture 10" descr="импр"/>
          <p:cNvPicPr/>
          <p:nvPr/>
        </p:nvPicPr>
        <p:blipFill>
          <a:blip r:embed="rId1"/>
          <a:stretch/>
        </p:blipFill>
        <p:spPr>
          <a:xfrm>
            <a:off x="3492360" y="3860640"/>
            <a:ext cx="3459240" cy="2252880"/>
          </a:xfrm>
          <a:prstGeom prst="rect">
            <a:avLst/>
          </a:prstGeom>
          <a:ln w="0">
            <a:noFill/>
          </a:ln>
        </p:spPr>
      </p:pic>
      <p:pic>
        <p:nvPicPr>
          <p:cNvPr id="974" name="WordArt 11" descr=""/>
          <p:cNvPicPr/>
          <p:nvPr/>
        </p:nvPicPr>
        <p:blipFill>
          <a:blip r:embed="rId2"/>
          <a:stretch/>
        </p:blipFill>
        <p:spPr>
          <a:xfrm>
            <a:off x="2541600" y="463680"/>
            <a:ext cx="4432320" cy="987120"/>
          </a:xfrm>
          <a:prstGeom prst="rect">
            <a:avLst/>
          </a:prstGeom>
          <a:ln w="0">
            <a:noFill/>
          </a:ln>
        </p:spPr>
      </p:pic>
      <p:sp>
        <p:nvSpPr>
          <p:cNvPr id="97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7" name="Picture 6" descr="Мессиане"/>
          <p:cNvPicPr/>
          <p:nvPr/>
        </p:nvPicPr>
        <p:blipFill>
          <a:blip r:embed="rId1"/>
          <a:stretch/>
        </p:blipFill>
        <p:spPr>
          <a:xfrm>
            <a:off x="5724360" y="2276640"/>
            <a:ext cx="2256120" cy="3219120"/>
          </a:xfrm>
          <a:prstGeom prst="rect">
            <a:avLst/>
          </a:prstGeom>
          <a:ln w="0">
            <a:noFill/>
          </a:ln>
        </p:spPr>
      </p:pic>
      <p:sp>
        <p:nvSpPr>
          <p:cNvPr id="978" name="Rectangle 7"/>
          <p:cNvSpPr/>
          <p:nvPr/>
        </p:nvSpPr>
        <p:spPr>
          <a:xfrm>
            <a:off x="6087240" y="558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. Мессиан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9" name="WordArt 9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5657760" cy="1047960"/>
          </a:xfrm>
          <a:prstGeom prst="rect">
            <a:avLst/>
          </a:prstGeom>
          <a:ln w="0">
            <a:noFill/>
          </a:ln>
        </p:spPr>
      </p:pic>
      <p:sp>
        <p:nvSpPr>
          <p:cNvPr id="9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388764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2" name="Picture 3" descr="BOB0274"/>
          <p:cNvPicPr/>
          <p:nvPr/>
        </p:nvPicPr>
        <p:blipFill>
          <a:blip r:embed="rId1"/>
          <a:stretch/>
        </p:blipFill>
        <p:spPr>
          <a:xfrm>
            <a:off x="4716360" y="476280"/>
            <a:ext cx="3076560" cy="21430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BOB0216"/>
          <p:cNvPicPr/>
          <p:nvPr/>
        </p:nvPicPr>
        <p:blipFill>
          <a:blip r:embed="rId2"/>
          <a:stretch/>
        </p:blipFill>
        <p:spPr>
          <a:xfrm>
            <a:off x="5580000" y="3716280"/>
            <a:ext cx="3102120" cy="2252880"/>
          </a:xfrm>
          <a:prstGeom prst="rect">
            <a:avLst/>
          </a:prstGeom>
          <a:ln w="0">
            <a:noFill/>
          </a:ln>
        </p:spPr>
      </p:pic>
      <p:sp>
        <p:nvSpPr>
          <p:cNvPr id="984" name="AutoShape 5"/>
          <p:cNvSpPr/>
          <p:nvPr/>
        </p:nvSpPr>
        <p:spPr>
          <a:xfrm>
            <a:off x="7596360" y="6021360"/>
            <a:ext cx="1547640" cy="836640"/>
          </a:xfrm>
          <a:custGeom>
            <a:avLst/>
            <a:gdLst>
              <a:gd name="textAreaLeft" fmla="*/ 54000 w 1547640"/>
              <a:gd name="textAreaRight" fmla="*/ 1493640 w 1547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948" h="21600">
                <a:moveTo>
                  <a:pt x="0" y="0"/>
                </a:moveTo>
                <a:lnTo>
                  <a:pt x="39948" y="0"/>
                </a:lnTo>
                <a:lnTo>
                  <a:pt x="39948" y="21600"/>
                </a:lnTo>
                <a:lnTo>
                  <a:pt x="0" y="21600"/>
                </a:lnTo>
                <a:close/>
              </a:path>
              <a:path fill="lightenLess" w="39948" h="21600">
                <a:moveTo>
                  <a:pt x="0" y="0"/>
                </a:moveTo>
                <a:lnTo>
                  <a:pt x="39948" y="0"/>
                </a:lnTo>
                <a:lnTo>
                  <a:pt x="38548" y="1400"/>
                </a:lnTo>
                <a:lnTo>
                  <a:pt x="1400" y="1400"/>
                </a:lnTo>
                <a:close/>
              </a:path>
              <a:path fill="darken" w="39948" h="21600">
                <a:moveTo>
                  <a:pt x="39948" y="0"/>
                </a:moveTo>
                <a:lnTo>
                  <a:pt x="39948" y="21600"/>
                </a:lnTo>
                <a:lnTo>
                  <a:pt x="38548" y="20200"/>
                </a:lnTo>
                <a:lnTo>
                  <a:pt x="38548" y="1400"/>
                </a:lnTo>
                <a:close/>
              </a:path>
              <a:path fill="darkenLess" w="39948" h="21600">
                <a:moveTo>
                  <a:pt x="3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48" y="20200"/>
                </a:lnTo>
                <a:close/>
              </a:path>
              <a:path fill="lighten" w="3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48" h="21600">
                <a:moveTo>
                  <a:pt x="19974" y="3837"/>
                </a:moveTo>
                <a:lnTo>
                  <a:pt x="22550" y="6448"/>
                </a:ln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lnTo>
                  <a:pt x="26937" y="10800"/>
                </a:lnTo>
                <a:lnTo>
                  <a:pt x="25283" y="10800"/>
                </a:lnTo>
                <a:lnTo>
                  <a:pt x="25283" y="17989"/>
                </a:lnTo>
                <a:lnTo>
                  <a:pt x="14665" y="17989"/>
                </a:lnTo>
                <a:lnTo>
                  <a:pt x="14665" y="10800"/>
                </a:lnTo>
                <a:lnTo>
                  <a:pt x="13011" y="10800"/>
                </a:lnTo>
                <a:close/>
              </a:path>
              <a:path fill="darkenLess" w="39948" h="21600">
                <a:moveTo>
                  <a:pt x="22550" y="6448"/>
                </a:move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close/>
              </a:path>
              <a:path fill="darkenLess" w="39948" h="21600">
                <a:moveTo>
                  <a:pt x="19052" y="14299"/>
                </a:moveTo>
                <a:lnTo>
                  <a:pt x="20897" y="14299"/>
                </a:lnTo>
                <a:lnTo>
                  <a:pt x="20897" y="17989"/>
                </a:lnTo>
                <a:lnTo>
                  <a:pt x="25283" y="17989"/>
                </a:lnTo>
                <a:lnTo>
                  <a:pt x="25283" y="10800"/>
                </a:lnTo>
                <a:lnTo>
                  <a:pt x="14665" y="10800"/>
                </a:lnTo>
                <a:lnTo>
                  <a:pt x="14665" y="17989"/>
                </a:lnTo>
                <a:lnTo>
                  <a:pt x="19052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45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лод Дебюс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орис Рав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7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5219640" y="1773360"/>
            <a:ext cx="1656000" cy="2168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6" descr="ravel"/>
          <p:cNvPicPr/>
          <p:nvPr/>
        </p:nvPicPr>
        <p:blipFill>
          <a:blip r:embed="rId2"/>
          <a:stretch/>
        </p:blipFill>
        <p:spPr>
          <a:xfrm>
            <a:off x="4788000" y="4365720"/>
            <a:ext cx="2576520" cy="2001600"/>
          </a:xfrm>
          <a:prstGeom prst="rect">
            <a:avLst/>
          </a:prstGeom>
          <a:ln w="0">
            <a:noFill/>
          </a:ln>
        </p:spPr>
      </p:pic>
      <p:sp>
        <p:nvSpPr>
          <p:cNvPr id="989" name="AutoShape 7"/>
          <p:cNvSpPr/>
          <p:nvPr/>
        </p:nvSpPr>
        <p:spPr>
          <a:xfrm>
            <a:off x="971640" y="1773360"/>
            <a:ext cx="3095640" cy="1042920"/>
          </a:xfrm>
          <a:custGeom>
            <a:avLst/>
            <a:gdLst>
              <a:gd name="textAreaLeft" fmla="*/ 67320 w 3095640"/>
              <a:gd name="textAreaRight" fmla="*/ 3028320 w 3095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4099" h="21600">
                <a:moveTo>
                  <a:pt x="0" y="0"/>
                </a:moveTo>
                <a:lnTo>
                  <a:pt x="64099" y="0"/>
                </a:lnTo>
                <a:lnTo>
                  <a:pt x="64099" y="21600"/>
                </a:lnTo>
                <a:lnTo>
                  <a:pt x="0" y="21600"/>
                </a:lnTo>
                <a:close/>
              </a:path>
              <a:path fill="lightenLess" w="64099" h="21600">
                <a:moveTo>
                  <a:pt x="0" y="0"/>
                </a:moveTo>
                <a:lnTo>
                  <a:pt x="64099" y="0"/>
                </a:lnTo>
                <a:lnTo>
                  <a:pt x="62699" y="1400"/>
                </a:lnTo>
                <a:lnTo>
                  <a:pt x="1400" y="1400"/>
                </a:lnTo>
                <a:close/>
              </a:path>
              <a:path fill="darken" w="64099" h="21600">
                <a:moveTo>
                  <a:pt x="64099" y="0"/>
                </a:moveTo>
                <a:lnTo>
                  <a:pt x="64099" y="21600"/>
                </a:lnTo>
                <a:lnTo>
                  <a:pt x="62699" y="20200"/>
                </a:lnTo>
                <a:lnTo>
                  <a:pt x="62699" y="1400"/>
                </a:lnTo>
                <a:close/>
              </a:path>
              <a:path fill="darkenLess" w="64099" h="21600">
                <a:moveTo>
                  <a:pt x="64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99" y="20200"/>
                </a:lnTo>
                <a:close/>
              </a:path>
              <a:path fill="lighten" w="64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99" h="21600">
                <a:moveTo>
                  <a:pt x="25043" y="3794"/>
                </a:moveTo>
                <a:lnTo>
                  <a:pt x="39056" y="10800"/>
                </a:lnTo>
                <a:lnTo>
                  <a:pt x="250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90" name="AutoShape 8"/>
          <p:cNvSpPr/>
          <p:nvPr/>
        </p:nvSpPr>
        <p:spPr>
          <a:xfrm>
            <a:off x="755640" y="3789360"/>
            <a:ext cx="3240000" cy="1042920"/>
          </a:xfrm>
          <a:custGeom>
            <a:avLst/>
            <a:gdLst>
              <a:gd name="textAreaLeft" fmla="*/ 67320 w 3240000"/>
              <a:gd name="textAreaRight" fmla="*/ 3172680 w 324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7088" h="21600">
                <a:moveTo>
                  <a:pt x="0" y="0"/>
                </a:moveTo>
                <a:lnTo>
                  <a:pt x="67088" y="0"/>
                </a:lnTo>
                <a:lnTo>
                  <a:pt x="67088" y="21600"/>
                </a:lnTo>
                <a:lnTo>
                  <a:pt x="0" y="21600"/>
                </a:lnTo>
                <a:close/>
              </a:path>
              <a:path fill="lightenLess" w="67088" h="21600">
                <a:moveTo>
                  <a:pt x="0" y="0"/>
                </a:moveTo>
                <a:lnTo>
                  <a:pt x="67088" y="0"/>
                </a:lnTo>
                <a:lnTo>
                  <a:pt x="65688" y="1400"/>
                </a:lnTo>
                <a:lnTo>
                  <a:pt x="1400" y="1400"/>
                </a:lnTo>
                <a:close/>
              </a:path>
              <a:path fill="darken" w="67088" h="21600">
                <a:moveTo>
                  <a:pt x="67088" y="0"/>
                </a:moveTo>
                <a:lnTo>
                  <a:pt x="67088" y="21600"/>
                </a:lnTo>
                <a:lnTo>
                  <a:pt x="65688" y="20200"/>
                </a:lnTo>
                <a:lnTo>
                  <a:pt x="65688" y="1400"/>
                </a:lnTo>
                <a:close/>
              </a:path>
              <a:path fill="darkenLess" w="67088" h="21600">
                <a:moveTo>
                  <a:pt x="6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88" y="20200"/>
                </a:lnTo>
                <a:close/>
              </a:path>
              <a:path fill="lighten" w="6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88" h="21600">
                <a:moveTo>
                  <a:pt x="26538" y="3794"/>
                </a:moveTo>
                <a:lnTo>
                  <a:pt x="40551" y="10800"/>
                </a:lnTo>
                <a:lnTo>
                  <a:pt x="265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91" name="WordArt 9" descr=""/>
          <p:cNvPicPr/>
          <p:nvPr/>
        </p:nvPicPr>
        <p:blipFill>
          <a:blip r:embed="rId3"/>
          <a:stretch/>
        </p:blipFill>
        <p:spPr>
          <a:xfrm>
            <a:off x="1182600" y="476280"/>
            <a:ext cx="6954840" cy="931680"/>
          </a:xfrm>
          <a:prstGeom prst="rect">
            <a:avLst/>
          </a:prstGeom>
          <a:ln w="0">
            <a:noFill/>
          </a:ln>
        </p:spPr>
      </p:pic>
      <p:sp>
        <p:nvSpPr>
          <p:cNvPr id="9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10920" y="2133720"/>
            <a:ext cx="747396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9" name="Picture 5" descr="J0153516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780000" y="4797360"/>
            <a:ext cx="1819080" cy="824040"/>
          </a:xfrm>
          <a:prstGeom prst="rect">
            <a:avLst/>
          </a:prstGeom>
          <a:ln w="0">
            <a:noFill/>
          </a:ln>
        </p:spPr>
      </p:pic>
      <p:pic>
        <p:nvPicPr>
          <p:cNvPr id="810" name="WordArt 6" descr=""/>
          <p:cNvPicPr/>
          <p:nvPr/>
        </p:nvPicPr>
        <p:blipFill>
          <a:blip r:embed="rId4"/>
          <a:stretch/>
        </p:blipFill>
        <p:spPr>
          <a:xfrm>
            <a:off x="3054240" y="549360"/>
            <a:ext cx="3144960" cy="117000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4895640" cy="432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4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6084720" y="2421000"/>
            <a:ext cx="2590920" cy="3394080"/>
          </a:xfrm>
          <a:prstGeom prst="rect">
            <a:avLst/>
          </a:prstGeom>
          <a:ln w="0">
            <a:noFill/>
          </a:ln>
        </p:spPr>
      </p:pic>
      <p:pic>
        <p:nvPicPr>
          <p:cNvPr id="995" name="WordArt 6" descr=""/>
          <p:cNvPicPr/>
          <p:nvPr/>
        </p:nvPicPr>
        <p:blipFill>
          <a:blip r:embed="rId2"/>
          <a:stretch/>
        </p:blipFill>
        <p:spPr>
          <a:xfrm>
            <a:off x="2914560" y="401760"/>
            <a:ext cx="3529080" cy="1304640"/>
          </a:xfrm>
          <a:prstGeom prst="rect">
            <a:avLst/>
          </a:prstGeom>
          <a:ln w="0">
            <a:noFill/>
          </a:ln>
        </p:spPr>
      </p:pic>
      <p:sp>
        <p:nvSpPr>
          <p:cNvPr id="99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8" name="Picture 4" descr="Клод Дебюсси"/>
          <p:cNvPicPr/>
          <p:nvPr/>
        </p:nvPicPr>
        <p:blipFill>
          <a:blip r:embed="rId1"/>
          <a:stretch/>
        </p:blipFill>
        <p:spPr>
          <a:xfrm>
            <a:off x="6012000" y="1341360"/>
            <a:ext cx="2173320" cy="3797280"/>
          </a:xfrm>
          <a:prstGeom prst="rect">
            <a:avLst/>
          </a:prstGeom>
          <a:ln w="0">
            <a:noFill/>
          </a:ln>
        </p:spPr>
      </p:pic>
      <p:sp>
        <p:nvSpPr>
          <p:cNvPr id="999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537080" cy="469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2" name="Picture 6" descr="21"/>
          <p:cNvPicPr/>
          <p:nvPr/>
        </p:nvPicPr>
        <p:blipFill>
          <a:blip r:embed="rId1"/>
          <a:stretch/>
        </p:blipFill>
        <p:spPr>
          <a:xfrm>
            <a:off x="5724360" y="2349360"/>
            <a:ext cx="2454480" cy="3629160"/>
          </a:xfrm>
          <a:prstGeom prst="rect">
            <a:avLst/>
          </a:prstGeom>
          <a:ln w="0">
            <a:noFill/>
          </a:ln>
        </p:spPr>
      </p:pic>
      <p:pic>
        <p:nvPicPr>
          <p:cNvPr id="1003" name="WordArt 7" descr=""/>
          <p:cNvPicPr/>
          <p:nvPr/>
        </p:nvPicPr>
        <p:blipFill>
          <a:blip r:embed="rId2"/>
          <a:stretch/>
        </p:blipFill>
        <p:spPr>
          <a:xfrm>
            <a:off x="2987640" y="401760"/>
            <a:ext cx="3400560" cy="1304640"/>
          </a:xfrm>
          <a:prstGeom prst="rect">
            <a:avLst/>
          </a:prstGeom>
          <a:ln w="0">
            <a:noFill/>
          </a:ln>
        </p:spPr>
      </p:pic>
      <p:sp>
        <p:nvSpPr>
          <p:cNvPr id="100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4249800" cy="597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6" name="Picture 4" descr="t_ravel"/>
          <p:cNvPicPr/>
          <p:nvPr/>
        </p:nvPicPr>
        <p:blipFill>
          <a:blip r:embed="rId1"/>
          <a:stretch/>
        </p:blipFill>
        <p:spPr>
          <a:xfrm>
            <a:off x="4859280" y="1700280"/>
            <a:ext cx="3960720" cy="2838240"/>
          </a:xfrm>
          <a:prstGeom prst="rect">
            <a:avLst/>
          </a:prstGeom>
          <a:ln w="0">
            <a:noFill/>
          </a:ln>
        </p:spPr>
      </p:pic>
      <p:sp>
        <p:nvSpPr>
          <p:cNvPr id="1007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0" name="WordArt 7" descr=""/>
          <p:cNvPicPr/>
          <p:nvPr/>
        </p:nvPicPr>
        <p:blipFill>
          <a:blip r:embed="rId1"/>
          <a:stretch/>
        </p:blipFill>
        <p:spPr>
          <a:xfrm>
            <a:off x="3481560" y="835200"/>
            <a:ext cx="2035080" cy="1116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" descr="Безымянный"/>
          <p:cNvPicPr/>
          <p:nvPr/>
        </p:nvPicPr>
        <p:blipFill>
          <a:blip r:embed="rId2"/>
          <a:stretch/>
        </p:blipFill>
        <p:spPr>
          <a:xfrm>
            <a:off x="6372360" y="3429000"/>
            <a:ext cx="1903320" cy="2805120"/>
          </a:xfrm>
          <a:prstGeom prst="rect">
            <a:avLst/>
          </a:prstGeom>
          <a:ln w="0">
            <a:noFill/>
          </a:ln>
        </p:spPr>
      </p:pic>
      <p:sp>
        <p:nvSpPr>
          <p:cNvPr id="1012" name="AutoShape 10"/>
          <p:cNvSpPr/>
          <p:nvPr/>
        </p:nvSpPr>
        <p:spPr>
          <a:xfrm>
            <a:off x="1042920" y="2421000"/>
            <a:ext cx="4969080" cy="574560"/>
          </a:xfrm>
          <a:custGeom>
            <a:avLst/>
            <a:gdLst>
              <a:gd name="textAreaLeft" fmla="*/ 37080 w 4969080"/>
              <a:gd name="textAreaRight" fmla="*/ 4932000 w 4969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86704" h="21600">
                <a:moveTo>
                  <a:pt x="0" y="0"/>
                </a:moveTo>
                <a:lnTo>
                  <a:pt x="186704" y="0"/>
                </a:lnTo>
                <a:lnTo>
                  <a:pt x="186704" y="21600"/>
                </a:lnTo>
                <a:lnTo>
                  <a:pt x="0" y="21600"/>
                </a:lnTo>
                <a:close/>
              </a:path>
              <a:path fill="lightenLess" w="186704" h="21600">
                <a:moveTo>
                  <a:pt x="0" y="0"/>
                </a:moveTo>
                <a:lnTo>
                  <a:pt x="186704" y="0"/>
                </a:lnTo>
                <a:lnTo>
                  <a:pt x="185304" y="1400"/>
                </a:lnTo>
                <a:lnTo>
                  <a:pt x="1400" y="1400"/>
                </a:lnTo>
                <a:close/>
              </a:path>
              <a:path fill="darken" w="186704" h="21600">
                <a:moveTo>
                  <a:pt x="186704" y="0"/>
                </a:moveTo>
                <a:lnTo>
                  <a:pt x="186704" y="21600"/>
                </a:lnTo>
                <a:lnTo>
                  <a:pt x="185304" y="20200"/>
                </a:lnTo>
                <a:lnTo>
                  <a:pt x="185304" y="1400"/>
                </a:lnTo>
                <a:close/>
              </a:path>
              <a:path fill="darkenLess" w="186704" h="21600">
                <a:moveTo>
                  <a:pt x="18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304" y="20200"/>
                </a:lnTo>
                <a:close/>
              </a:path>
              <a:path fill="lighten" w="18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704" h="21600">
                <a:moveTo>
                  <a:pt x="86346" y="3794"/>
                </a:moveTo>
                <a:lnTo>
                  <a:pt x="100359" y="10800"/>
                </a:lnTo>
                <a:lnTo>
                  <a:pt x="863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3" name="AutoShape 11"/>
          <p:cNvSpPr/>
          <p:nvPr/>
        </p:nvSpPr>
        <p:spPr>
          <a:xfrm>
            <a:off x="900000" y="3068640"/>
            <a:ext cx="5112000" cy="504720"/>
          </a:xfrm>
          <a:custGeom>
            <a:avLst/>
            <a:gdLst>
              <a:gd name="textAreaLeft" fmla="*/ 32400 w 5112000"/>
              <a:gd name="textAreaRight" fmla="*/ 5079600 w 511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8633" h="21600">
                <a:moveTo>
                  <a:pt x="0" y="0"/>
                </a:moveTo>
                <a:lnTo>
                  <a:pt x="218633" y="0"/>
                </a:lnTo>
                <a:lnTo>
                  <a:pt x="218633" y="21600"/>
                </a:lnTo>
                <a:lnTo>
                  <a:pt x="0" y="21600"/>
                </a:lnTo>
                <a:close/>
              </a:path>
              <a:path fill="lightenLess" w="218633" h="21600">
                <a:moveTo>
                  <a:pt x="0" y="0"/>
                </a:moveTo>
                <a:lnTo>
                  <a:pt x="218633" y="0"/>
                </a:lnTo>
                <a:lnTo>
                  <a:pt x="217233" y="1400"/>
                </a:lnTo>
                <a:lnTo>
                  <a:pt x="1400" y="1400"/>
                </a:lnTo>
                <a:close/>
              </a:path>
              <a:path fill="darken" w="218633" h="21600">
                <a:moveTo>
                  <a:pt x="218633" y="0"/>
                </a:moveTo>
                <a:lnTo>
                  <a:pt x="218633" y="21600"/>
                </a:lnTo>
                <a:lnTo>
                  <a:pt x="217233" y="20200"/>
                </a:lnTo>
                <a:lnTo>
                  <a:pt x="217233" y="1400"/>
                </a:lnTo>
                <a:close/>
              </a:path>
              <a:path fill="darkenLess" w="218633" h="21600">
                <a:moveTo>
                  <a:pt x="218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233" y="20200"/>
                </a:lnTo>
                <a:close/>
              </a:path>
              <a:path fill="lighten" w="218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33" h="21600">
                <a:moveTo>
                  <a:pt x="102310" y="3794"/>
                </a:moveTo>
                <a:lnTo>
                  <a:pt x="116323" y="10800"/>
                </a:lnTo>
                <a:lnTo>
                  <a:pt x="1023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755280" y="1628640"/>
            <a:ext cx="504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6" name="Picture 8" descr="Nirvana "/>
          <p:cNvPicPr/>
          <p:nvPr/>
        </p:nvPicPr>
        <p:blipFill>
          <a:blip r:embed="rId1"/>
          <a:stretch/>
        </p:blipFill>
        <p:spPr>
          <a:xfrm>
            <a:off x="6084720" y="2060640"/>
            <a:ext cx="2306880" cy="3601800"/>
          </a:xfrm>
          <a:prstGeom prst="rect">
            <a:avLst/>
          </a:prstGeom>
          <a:ln w="0">
            <a:noFill/>
          </a:ln>
        </p:spPr>
      </p:pic>
      <p:pic>
        <p:nvPicPr>
          <p:cNvPr id="1017" name="WordArt 9" descr=""/>
          <p:cNvPicPr/>
          <p:nvPr/>
        </p:nvPicPr>
        <p:blipFill>
          <a:blip r:embed="rId2"/>
          <a:stretch/>
        </p:blipFill>
        <p:spPr>
          <a:xfrm>
            <a:off x="1755720" y="609480"/>
            <a:ext cx="5730840" cy="70668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11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3671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Beat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x Pisto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ep Purpl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1" name="WordArt 7" descr=""/>
          <p:cNvPicPr/>
          <p:nvPr/>
        </p:nvPicPr>
        <p:blipFill>
          <a:blip r:embed="rId1"/>
          <a:stretch/>
        </p:blipFill>
        <p:spPr>
          <a:xfrm>
            <a:off x="1689120" y="689040"/>
            <a:ext cx="6192720" cy="981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Beatles 2"/>
          <p:cNvPicPr/>
          <p:nvPr/>
        </p:nvPicPr>
        <p:blipFill>
          <a:blip r:embed="rId2"/>
          <a:stretch/>
        </p:blipFill>
        <p:spPr>
          <a:xfrm>
            <a:off x="4140360" y="2276640"/>
            <a:ext cx="3670200" cy="3301920"/>
          </a:xfrm>
          <a:prstGeom prst="rect">
            <a:avLst/>
          </a:prstGeom>
          <a:ln w="0">
            <a:noFill/>
          </a:ln>
        </p:spPr>
      </p:pic>
      <p:sp>
        <p:nvSpPr>
          <p:cNvPr id="1023" name="AutoShape 10"/>
          <p:cNvSpPr/>
          <p:nvPr/>
        </p:nvSpPr>
        <p:spPr>
          <a:xfrm>
            <a:off x="1258920" y="2276640"/>
            <a:ext cx="2160720" cy="64908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71876" h="21600">
                <a:moveTo>
                  <a:pt x="0" y="0"/>
                </a:moveTo>
                <a:lnTo>
                  <a:pt x="71876" y="0"/>
                </a:lnTo>
                <a:lnTo>
                  <a:pt x="71876" y="21600"/>
                </a:lnTo>
                <a:lnTo>
                  <a:pt x="0" y="21600"/>
                </a:lnTo>
                <a:close/>
              </a:path>
              <a:path fill="lightenLess" w="71876" h="21600">
                <a:moveTo>
                  <a:pt x="0" y="0"/>
                </a:moveTo>
                <a:lnTo>
                  <a:pt x="71876" y="0"/>
                </a:lnTo>
                <a:lnTo>
                  <a:pt x="70476" y="1400"/>
                </a:lnTo>
                <a:lnTo>
                  <a:pt x="1400" y="1400"/>
                </a:lnTo>
                <a:close/>
              </a:path>
              <a:path fill="darken" w="71876" h="21600">
                <a:moveTo>
                  <a:pt x="71876" y="0"/>
                </a:moveTo>
                <a:lnTo>
                  <a:pt x="71876" y="21600"/>
                </a:lnTo>
                <a:lnTo>
                  <a:pt x="70476" y="20200"/>
                </a:lnTo>
                <a:lnTo>
                  <a:pt x="70476" y="1400"/>
                </a:lnTo>
                <a:close/>
              </a:path>
              <a:path fill="darkenLess" w="71876" h="21600">
                <a:moveTo>
                  <a:pt x="7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76" y="20200"/>
                </a:lnTo>
                <a:close/>
              </a:path>
              <a:path fill="lighten" w="7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76" h="21600">
                <a:moveTo>
                  <a:pt x="28932" y="3794"/>
                </a:moveTo>
                <a:lnTo>
                  <a:pt x="42945" y="10800"/>
                </a:lnTo>
                <a:lnTo>
                  <a:pt x="2893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1258920" y="3284640"/>
            <a:ext cx="2160720" cy="720720"/>
          </a:xfrm>
          <a:custGeom>
            <a:avLst/>
            <a:gdLst>
              <a:gd name="textAreaLeft" fmla="*/ 46440 w 2160720"/>
              <a:gd name="textAreaRight" fmla="*/ 2114280 w 216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4735" h="21600">
                <a:moveTo>
                  <a:pt x="0" y="0"/>
                </a:moveTo>
                <a:lnTo>
                  <a:pt x="64735" y="0"/>
                </a:lnTo>
                <a:lnTo>
                  <a:pt x="64735" y="21600"/>
                </a:lnTo>
                <a:lnTo>
                  <a:pt x="0" y="21600"/>
                </a:lnTo>
                <a:close/>
              </a:path>
              <a:path fill="lightenLess" w="64735" h="21600">
                <a:moveTo>
                  <a:pt x="0" y="0"/>
                </a:moveTo>
                <a:lnTo>
                  <a:pt x="64735" y="0"/>
                </a:lnTo>
                <a:lnTo>
                  <a:pt x="63335" y="1400"/>
                </a:lnTo>
                <a:lnTo>
                  <a:pt x="1400" y="1400"/>
                </a:lnTo>
                <a:close/>
              </a:path>
              <a:path fill="darken" w="64735" h="21600">
                <a:moveTo>
                  <a:pt x="64735" y="0"/>
                </a:moveTo>
                <a:lnTo>
                  <a:pt x="64735" y="21600"/>
                </a:lnTo>
                <a:lnTo>
                  <a:pt x="63335" y="20200"/>
                </a:lnTo>
                <a:lnTo>
                  <a:pt x="63335" y="1400"/>
                </a:lnTo>
                <a:close/>
              </a:path>
              <a:path fill="darkenLess" w="64735" h="21600">
                <a:moveTo>
                  <a:pt x="64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5" y="20200"/>
                </a:lnTo>
                <a:close/>
              </a:path>
              <a:path fill="lighten" w="64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5" h="21600">
                <a:moveTo>
                  <a:pt x="25361" y="3794"/>
                </a:moveTo>
                <a:lnTo>
                  <a:pt x="39374" y="10800"/>
                </a:lnTo>
                <a:lnTo>
                  <a:pt x="253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5" name="AutoShape 12"/>
          <p:cNvSpPr/>
          <p:nvPr/>
        </p:nvSpPr>
        <p:spPr>
          <a:xfrm>
            <a:off x="1258920" y="4437000"/>
            <a:ext cx="2233440" cy="504720"/>
          </a:xfrm>
          <a:custGeom>
            <a:avLst/>
            <a:gdLst>
              <a:gd name="textAreaLeft" fmla="*/ 32400 w 2233440"/>
              <a:gd name="textAreaRight" fmla="*/ 2201040 w 2233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530" h="21600">
                <a:moveTo>
                  <a:pt x="0" y="0"/>
                </a:moveTo>
                <a:lnTo>
                  <a:pt x="95530" y="0"/>
                </a:lnTo>
                <a:lnTo>
                  <a:pt x="95530" y="21600"/>
                </a:lnTo>
                <a:lnTo>
                  <a:pt x="0" y="21600"/>
                </a:lnTo>
                <a:close/>
              </a:path>
              <a:path fill="lightenLess" w="95530" h="21600">
                <a:moveTo>
                  <a:pt x="0" y="0"/>
                </a:moveTo>
                <a:lnTo>
                  <a:pt x="95530" y="0"/>
                </a:lnTo>
                <a:lnTo>
                  <a:pt x="94130" y="1400"/>
                </a:lnTo>
                <a:lnTo>
                  <a:pt x="1400" y="1400"/>
                </a:lnTo>
                <a:close/>
              </a:path>
              <a:path fill="darken" w="95530" h="21600">
                <a:moveTo>
                  <a:pt x="95530" y="0"/>
                </a:moveTo>
                <a:lnTo>
                  <a:pt x="95530" y="21600"/>
                </a:lnTo>
                <a:lnTo>
                  <a:pt x="94130" y="20200"/>
                </a:lnTo>
                <a:lnTo>
                  <a:pt x="94130" y="1400"/>
                </a:lnTo>
                <a:close/>
              </a:path>
              <a:path fill="darkenLess" w="95530" h="21600">
                <a:moveTo>
                  <a:pt x="9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30" y="20200"/>
                </a:lnTo>
                <a:close/>
              </a:path>
              <a:path fill="lighten" w="9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530" h="21600">
                <a:moveTo>
                  <a:pt x="40758" y="3794"/>
                </a:moveTo>
                <a:lnTo>
                  <a:pt x="54771" y="10800"/>
                </a:lnTo>
                <a:lnTo>
                  <a:pt x="407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381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аверное, группа «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he Beatles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-ролл. Названи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«The Beatles»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они приобрели намного поздне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 в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апрел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1960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года в Шотландии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8" name="WordArt 6" descr=""/>
          <p:cNvPicPr/>
          <p:nvPr/>
        </p:nvPicPr>
        <p:blipFill>
          <a:blip r:embed="rId1"/>
          <a:stretch/>
        </p:blipFill>
        <p:spPr>
          <a:xfrm>
            <a:off x="3121200" y="609480"/>
            <a:ext cx="3047760" cy="67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81"/>
          <p:cNvPicPr/>
          <p:nvPr/>
        </p:nvPicPr>
        <p:blipFill>
          <a:blip r:embed="rId2"/>
          <a:stretch/>
        </p:blipFill>
        <p:spPr>
          <a:xfrm>
            <a:off x="4788000" y="1989000"/>
            <a:ext cx="3817800" cy="3262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374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ove me do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В 1970 году группа распалась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2" name="Picture 4" descr="Рисунок1"/>
          <p:cNvPicPr/>
          <p:nvPr/>
        </p:nvPicPr>
        <p:blipFill>
          <a:blip r:embed="rId1"/>
          <a:stretch/>
        </p:blipFill>
        <p:spPr>
          <a:xfrm>
            <a:off x="4500720" y="1413000"/>
            <a:ext cx="3752640" cy="3638520"/>
          </a:xfrm>
          <a:prstGeom prst="rect">
            <a:avLst/>
          </a:prstGeom>
          <a:ln w="0">
            <a:noFill/>
          </a:ln>
        </p:spPr>
      </p:pic>
      <p:sp>
        <p:nvSpPr>
          <p:cNvPr id="1033" name="AutoShape 5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920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6" name="WordArt 4" descr=""/>
          <p:cNvPicPr/>
          <p:nvPr/>
        </p:nvPicPr>
        <p:blipFill>
          <a:blip r:embed="rId1"/>
          <a:stretch/>
        </p:blipFill>
        <p:spPr>
          <a:xfrm>
            <a:off x="3340080" y="426960"/>
            <a:ext cx="2895480" cy="768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" descr="sex-pistols-050523"/>
          <p:cNvPicPr/>
          <p:nvPr/>
        </p:nvPicPr>
        <p:blipFill>
          <a:blip r:embed="rId2"/>
          <a:stretch/>
        </p:blipFill>
        <p:spPr>
          <a:xfrm>
            <a:off x="2411280" y="3860640"/>
            <a:ext cx="4394160" cy="2592720"/>
          </a:xfrm>
          <a:prstGeom prst="rect">
            <a:avLst/>
          </a:prstGeom>
          <a:ln w="0">
            <a:noFill/>
          </a:ln>
        </p:spPr>
      </p:pic>
      <p:sp>
        <p:nvSpPr>
          <p:cNvPr id="1038" name="AutoShape 10"/>
          <p:cNvSpPr/>
          <p:nvPr/>
        </p:nvSpPr>
        <p:spPr>
          <a:xfrm>
            <a:off x="8101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395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Экс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Дж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вангард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м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7" descr="119"/>
          <p:cNvPicPr/>
          <p:nvPr/>
        </p:nvPicPr>
        <p:blipFill>
          <a:blip r:embed="rId1"/>
          <a:stretch/>
        </p:blipFill>
        <p:spPr>
          <a:xfrm>
            <a:off x="4648320" y="2585880"/>
            <a:ext cx="4038480" cy="290376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11">
            <a:hlinkClick r:id="rId2"/>
          </p:cNvPr>
          <p:cNvSpPr/>
          <p:nvPr/>
        </p:nvSpPr>
        <p:spPr>
          <a:xfrm>
            <a:off x="826920" y="2133720"/>
            <a:ext cx="2089440" cy="649080"/>
          </a:xfrm>
          <a:custGeom>
            <a:avLst/>
            <a:gdLst>
              <a:gd name="textAreaLeft" fmla="*/ 41760 w 2089440"/>
              <a:gd name="textAreaRight" fmla="*/ 2047680 w 20894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69506" h="21600">
                <a:moveTo>
                  <a:pt x="0" y="0"/>
                </a:moveTo>
                <a:lnTo>
                  <a:pt x="69506" y="0"/>
                </a:lnTo>
                <a:lnTo>
                  <a:pt x="69506" y="21600"/>
                </a:lnTo>
                <a:lnTo>
                  <a:pt x="0" y="21600"/>
                </a:lnTo>
                <a:close/>
              </a:path>
              <a:path fill="lightenLess" w="69506" h="21600">
                <a:moveTo>
                  <a:pt x="0" y="0"/>
                </a:moveTo>
                <a:lnTo>
                  <a:pt x="69506" y="0"/>
                </a:lnTo>
                <a:lnTo>
                  <a:pt x="68106" y="1400"/>
                </a:lnTo>
                <a:lnTo>
                  <a:pt x="1400" y="1400"/>
                </a:lnTo>
                <a:close/>
              </a:path>
              <a:path fill="darken" w="69506" h="21600">
                <a:moveTo>
                  <a:pt x="69506" y="0"/>
                </a:moveTo>
                <a:lnTo>
                  <a:pt x="69506" y="21600"/>
                </a:lnTo>
                <a:lnTo>
                  <a:pt x="68106" y="20200"/>
                </a:lnTo>
                <a:lnTo>
                  <a:pt x="68106" y="1400"/>
                </a:lnTo>
                <a:close/>
              </a:path>
              <a:path fill="darkenLess" w="69506" h="21600">
                <a:moveTo>
                  <a:pt x="69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06" y="20200"/>
                </a:lnTo>
                <a:close/>
              </a:path>
              <a:path fill="lighten" w="69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506" h="21600">
                <a:moveTo>
                  <a:pt x="27746" y="3794"/>
                </a:moveTo>
                <a:lnTo>
                  <a:pt x="41759" y="10800"/>
                </a:lnTo>
                <a:lnTo>
                  <a:pt x="277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5" name="AutoShape 12">
            <a:hlinkClick r:id="rId3"/>
          </p:cNvPr>
          <p:cNvSpPr/>
          <p:nvPr/>
        </p:nvSpPr>
        <p:spPr>
          <a:xfrm>
            <a:off x="826920" y="3357720"/>
            <a:ext cx="1332000" cy="502920"/>
          </a:xfrm>
          <a:custGeom>
            <a:avLst/>
            <a:gdLst>
              <a:gd name="textAreaLeft" fmla="*/ 32400 w 1332000"/>
              <a:gd name="textAreaRight" fmla="*/ 1299600 w 133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7183" h="21600">
                <a:moveTo>
                  <a:pt x="0" y="0"/>
                </a:moveTo>
                <a:lnTo>
                  <a:pt x="57183" y="0"/>
                </a:lnTo>
                <a:lnTo>
                  <a:pt x="57183" y="21600"/>
                </a:lnTo>
                <a:lnTo>
                  <a:pt x="0" y="21600"/>
                </a:lnTo>
                <a:close/>
              </a:path>
              <a:path fill="lightenLess" w="57183" h="21600">
                <a:moveTo>
                  <a:pt x="0" y="0"/>
                </a:moveTo>
                <a:lnTo>
                  <a:pt x="57183" y="0"/>
                </a:lnTo>
                <a:lnTo>
                  <a:pt x="55783" y="1400"/>
                </a:lnTo>
                <a:lnTo>
                  <a:pt x="1400" y="1400"/>
                </a:lnTo>
                <a:close/>
              </a:path>
              <a:path fill="darken" w="57183" h="21600">
                <a:moveTo>
                  <a:pt x="57183" y="0"/>
                </a:moveTo>
                <a:lnTo>
                  <a:pt x="57183" y="21600"/>
                </a:lnTo>
                <a:lnTo>
                  <a:pt x="55783" y="20200"/>
                </a:lnTo>
                <a:lnTo>
                  <a:pt x="55783" y="1400"/>
                </a:lnTo>
                <a:close/>
              </a:path>
              <a:path fill="darkenLess" w="57183" h="21600">
                <a:moveTo>
                  <a:pt x="57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783" y="20200"/>
                </a:lnTo>
                <a:close/>
              </a:path>
              <a:path fill="lighten" w="57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183" h="21600">
                <a:moveTo>
                  <a:pt x="21585" y="3794"/>
                </a:moveTo>
                <a:lnTo>
                  <a:pt x="35598" y="10800"/>
                </a:lnTo>
                <a:lnTo>
                  <a:pt x="215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6" name="AutoShape 13">
            <a:hlinkClick r:id="rId4"/>
          </p:cNvPr>
          <p:cNvSpPr/>
          <p:nvPr/>
        </p:nvSpPr>
        <p:spPr>
          <a:xfrm>
            <a:off x="900000" y="3933720"/>
            <a:ext cx="2519640" cy="505080"/>
          </a:xfrm>
          <a:custGeom>
            <a:avLst/>
            <a:gdLst>
              <a:gd name="textAreaLeft" fmla="*/ 32400 w 2519640"/>
              <a:gd name="textAreaRight" fmla="*/ 2486880 w 2519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107692" h="21600">
                <a:moveTo>
                  <a:pt x="0" y="0"/>
                </a:moveTo>
                <a:lnTo>
                  <a:pt x="107692" y="0"/>
                </a:lnTo>
                <a:lnTo>
                  <a:pt x="107692" y="21600"/>
                </a:lnTo>
                <a:lnTo>
                  <a:pt x="0" y="21600"/>
                </a:lnTo>
                <a:close/>
              </a:path>
              <a:path fill="lightenLess" w="107692" h="21600">
                <a:moveTo>
                  <a:pt x="0" y="0"/>
                </a:moveTo>
                <a:lnTo>
                  <a:pt x="107692" y="0"/>
                </a:lnTo>
                <a:lnTo>
                  <a:pt x="106292" y="1400"/>
                </a:lnTo>
                <a:lnTo>
                  <a:pt x="1400" y="1400"/>
                </a:lnTo>
                <a:close/>
              </a:path>
              <a:path fill="darken" w="107692" h="21600">
                <a:moveTo>
                  <a:pt x="107692" y="0"/>
                </a:moveTo>
                <a:lnTo>
                  <a:pt x="107692" y="21600"/>
                </a:lnTo>
                <a:lnTo>
                  <a:pt x="106292" y="20200"/>
                </a:lnTo>
                <a:lnTo>
                  <a:pt x="106292" y="1400"/>
                </a:lnTo>
                <a:close/>
              </a:path>
              <a:path fill="darkenLess" w="107692" h="21600">
                <a:moveTo>
                  <a:pt x="10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292" y="20200"/>
                </a:lnTo>
                <a:close/>
              </a:path>
              <a:path fill="lighten" w="10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692" h="21600">
                <a:moveTo>
                  <a:pt x="46840" y="3794"/>
                </a:moveTo>
                <a:lnTo>
                  <a:pt x="60853" y="10800"/>
                </a:lnTo>
                <a:lnTo>
                  <a:pt x="4684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7" name="AutoShape 14">
            <a:hlinkClick r:id="rId5"/>
          </p:cNvPr>
          <p:cNvSpPr/>
          <p:nvPr/>
        </p:nvSpPr>
        <p:spPr>
          <a:xfrm>
            <a:off x="755640" y="4508640"/>
            <a:ext cx="3024360" cy="576000"/>
          </a:xfrm>
          <a:custGeom>
            <a:avLst/>
            <a:gdLst>
              <a:gd name="textAreaLeft" fmla="*/ 37080 w 3024360"/>
              <a:gd name="textAreaRight" fmla="*/ 2987280 w 302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13356" h="21600">
                <a:moveTo>
                  <a:pt x="0" y="0"/>
                </a:moveTo>
                <a:lnTo>
                  <a:pt x="113356" y="0"/>
                </a:lnTo>
                <a:lnTo>
                  <a:pt x="113356" y="21600"/>
                </a:lnTo>
                <a:lnTo>
                  <a:pt x="0" y="21600"/>
                </a:lnTo>
                <a:close/>
              </a:path>
              <a:path fill="lightenLess" w="113356" h="21600">
                <a:moveTo>
                  <a:pt x="0" y="0"/>
                </a:moveTo>
                <a:lnTo>
                  <a:pt x="113356" y="0"/>
                </a:lnTo>
                <a:lnTo>
                  <a:pt x="111956" y="1400"/>
                </a:lnTo>
                <a:lnTo>
                  <a:pt x="1400" y="1400"/>
                </a:lnTo>
                <a:close/>
              </a:path>
              <a:path fill="darken" w="113356" h="21600">
                <a:moveTo>
                  <a:pt x="113356" y="0"/>
                </a:moveTo>
                <a:lnTo>
                  <a:pt x="113356" y="21600"/>
                </a:lnTo>
                <a:lnTo>
                  <a:pt x="111956" y="20200"/>
                </a:lnTo>
                <a:lnTo>
                  <a:pt x="111956" y="1400"/>
                </a:lnTo>
                <a:close/>
              </a:path>
              <a:path fill="darkenLess" w="113356" h="21600">
                <a:moveTo>
                  <a:pt x="113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56" y="20200"/>
                </a:lnTo>
                <a:close/>
              </a:path>
              <a:path fill="lighten" w="113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56" h="21600">
                <a:moveTo>
                  <a:pt x="49672" y="3794"/>
                </a:moveTo>
                <a:lnTo>
                  <a:pt x="63685" y="10800"/>
                </a:lnTo>
                <a:lnTo>
                  <a:pt x="4967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8" name="AutoShape 15">
            <a:hlinkClick r:id="rId6"/>
          </p:cNvPr>
          <p:cNvSpPr/>
          <p:nvPr/>
        </p:nvSpPr>
        <p:spPr>
          <a:xfrm>
            <a:off x="826920" y="2781360"/>
            <a:ext cx="3097440" cy="503280"/>
          </a:xfrm>
          <a:custGeom>
            <a:avLst/>
            <a:gdLst>
              <a:gd name="textAreaLeft" fmla="*/ 32400 w 3097440"/>
              <a:gd name="textAreaRight" fmla="*/ 3065040 w 3097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32858" h="21600">
                <a:moveTo>
                  <a:pt x="0" y="0"/>
                </a:moveTo>
                <a:lnTo>
                  <a:pt x="132858" y="0"/>
                </a:lnTo>
                <a:lnTo>
                  <a:pt x="132858" y="21600"/>
                </a:lnTo>
                <a:lnTo>
                  <a:pt x="0" y="21600"/>
                </a:lnTo>
                <a:close/>
              </a:path>
              <a:path fill="lightenLess" w="132858" h="21600">
                <a:moveTo>
                  <a:pt x="0" y="0"/>
                </a:moveTo>
                <a:lnTo>
                  <a:pt x="132858" y="0"/>
                </a:lnTo>
                <a:lnTo>
                  <a:pt x="131458" y="1400"/>
                </a:lnTo>
                <a:lnTo>
                  <a:pt x="1400" y="1400"/>
                </a:lnTo>
                <a:close/>
              </a:path>
              <a:path fill="darken" w="132858" h="21600">
                <a:moveTo>
                  <a:pt x="132858" y="0"/>
                </a:moveTo>
                <a:lnTo>
                  <a:pt x="132858" y="21600"/>
                </a:lnTo>
                <a:lnTo>
                  <a:pt x="131458" y="20200"/>
                </a:lnTo>
                <a:lnTo>
                  <a:pt x="131458" y="1400"/>
                </a:lnTo>
                <a:close/>
              </a:path>
              <a:path fill="darkenLess" w="132858" h="21600">
                <a:moveTo>
                  <a:pt x="132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458" y="20200"/>
                </a:lnTo>
                <a:close/>
              </a:path>
              <a:path fill="lighten" w="132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2858" h="21600">
                <a:moveTo>
                  <a:pt x="59422" y="3794"/>
                </a:moveTo>
                <a:lnTo>
                  <a:pt x="73435" y="10800"/>
                </a:lnTo>
                <a:lnTo>
                  <a:pt x="594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19" name="WordArt 17" descr=""/>
          <p:cNvPicPr/>
          <p:nvPr/>
        </p:nvPicPr>
        <p:blipFill>
          <a:blip r:embed="rId7"/>
          <a:stretch/>
        </p:blipFill>
        <p:spPr>
          <a:xfrm>
            <a:off x="1822320" y="603360"/>
            <a:ext cx="6486480" cy="658800"/>
          </a:xfrm>
          <a:prstGeom prst="rect">
            <a:avLst/>
          </a:prstGeom>
          <a:ln w="0">
            <a:noFill/>
          </a:ln>
        </p:spPr>
      </p:pic>
      <p:pic>
        <p:nvPicPr>
          <p:cNvPr id="820" name="WordArt 18" descr=""/>
          <p:cNvPicPr/>
          <p:nvPr/>
        </p:nvPicPr>
        <p:blipFill>
          <a:blip r:embed="rId8"/>
          <a:stretch/>
        </p:blipFill>
        <p:spPr>
          <a:xfrm>
            <a:off x="2468520" y="1328760"/>
            <a:ext cx="4633920" cy="658800"/>
          </a:xfrm>
          <a:prstGeom prst="rect">
            <a:avLst/>
          </a:prstGeom>
          <a:ln w="0">
            <a:noFill/>
          </a:ln>
        </p:spPr>
      </p:pic>
      <p:sp>
        <p:nvSpPr>
          <p:cNvPr id="821" name="AutoShape 19">
            <a:hlinkClick r:id="rId9"/>
          </p:cNvPr>
          <p:cNvSpPr/>
          <p:nvPr/>
        </p:nvSpPr>
        <p:spPr>
          <a:xfrm>
            <a:off x="611280" y="5084640"/>
            <a:ext cx="3168720" cy="57492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18989" h="21600">
                <a:moveTo>
                  <a:pt x="0" y="0"/>
                </a:moveTo>
                <a:lnTo>
                  <a:pt x="118989" y="0"/>
                </a:lnTo>
                <a:lnTo>
                  <a:pt x="118989" y="21600"/>
                </a:lnTo>
                <a:lnTo>
                  <a:pt x="0" y="21600"/>
                </a:lnTo>
                <a:close/>
              </a:path>
              <a:path fill="lightenLess" w="118989" h="21600">
                <a:moveTo>
                  <a:pt x="0" y="0"/>
                </a:moveTo>
                <a:lnTo>
                  <a:pt x="118989" y="0"/>
                </a:lnTo>
                <a:lnTo>
                  <a:pt x="117589" y="1400"/>
                </a:lnTo>
                <a:lnTo>
                  <a:pt x="1400" y="1400"/>
                </a:lnTo>
                <a:close/>
              </a:path>
              <a:path fill="darken" w="118989" h="21600">
                <a:moveTo>
                  <a:pt x="118989" y="0"/>
                </a:moveTo>
                <a:lnTo>
                  <a:pt x="118989" y="21600"/>
                </a:lnTo>
                <a:lnTo>
                  <a:pt x="117589" y="20200"/>
                </a:lnTo>
                <a:lnTo>
                  <a:pt x="117589" y="1400"/>
                </a:lnTo>
                <a:close/>
              </a:path>
              <a:path fill="darkenLess" w="118989" h="21600">
                <a:moveTo>
                  <a:pt x="118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589" y="20200"/>
                </a:lnTo>
                <a:close/>
              </a:path>
              <a:path fill="lighten" w="118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989" h="21600">
                <a:moveTo>
                  <a:pt x="52488" y="3794"/>
                </a:moveTo>
                <a:lnTo>
                  <a:pt x="66501" y="10800"/>
                </a:lnTo>
                <a:lnTo>
                  <a:pt x="524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302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1" name="WordArt 4" descr="Зеленый мрамор"/>
          <p:cNvPicPr/>
          <p:nvPr/>
        </p:nvPicPr>
        <p:blipFill>
          <a:blip r:embed="rId1"/>
          <a:stretch/>
        </p:blipFill>
        <p:spPr>
          <a:xfrm>
            <a:off x="2468520" y="676440"/>
            <a:ext cx="4292640" cy="877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dp"/>
          <p:cNvPicPr/>
          <p:nvPr/>
        </p:nvPicPr>
        <p:blipFill>
          <a:blip r:embed="rId2"/>
          <a:stretch/>
        </p:blipFill>
        <p:spPr>
          <a:xfrm>
            <a:off x="3924360" y="2133720"/>
            <a:ext cx="4692600" cy="3519360"/>
          </a:xfrm>
          <a:prstGeom prst="rect">
            <a:avLst/>
          </a:prstGeom>
          <a:ln w="0">
            <a:noFill/>
          </a:ln>
        </p:spPr>
      </p:pic>
      <p:sp>
        <p:nvSpPr>
          <p:cNvPr id="1043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4030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5" name="Picture 5" descr="composer607"/>
          <p:cNvPicPr/>
          <p:nvPr/>
        </p:nvPicPr>
        <p:blipFill>
          <a:blip r:embed="rId1"/>
          <a:stretch/>
        </p:blipFill>
        <p:spPr>
          <a:xfrm>
            <a:off x="5364000" y="1700280"/>
            <a:ext cx="2667240" cy="3284640"/>
          </a:xfrm>
          <a:prstGeom prst="rect">
            <a:avLst/>
          </a:prstGeom>
          <a:ln w="0">
            <a:noFill/>
          </a:ln>
        </p:spPr>
      </p:pic>
      <p:sp>
        <p:nvSpPr>
          <p:cNvPr id="104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7" descr="J0309705"/>
          <p:cNvPicPr/>
          <p:nvPr/>
        </p:nvPicPr>
        <p:blipFill>
          <a:blip r:embed="rId1"/>
          <a:stretch/>
        </p:blipFill>
        <p:spPr>
          <a:xfrm>
            <a:off x="1692360" y="3573360"/>
            <a:ext cx="5832360" cy="280836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8">
            <a:hlinkClick r:id="rId2"/>
          </p:cNvPr>
          <p:cNvSpPr/>
          <p:nvPr/>
        </p:nvSpPr>
        <p:spPr>
          <a:xfrm>
            <a:off x="611280" y="1916280"/>
            <a:ext cx="4968720" cy="576000"/>
          </a:xfrm>
          <a:custGeom>
            <a:avLst/>
            <a:gdLst>
              <a:gd name="textAreaLeft" fmla="*/ 37080 w 4968720"/>
              <a:gd name="textAreaRight" fmla="*/ 4931640 w 496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86224" h="21600">
                <a:moveTo>
                  <a:pt x="0" y="0"/>
                </a:moveTo>
                <a:lnTo>
                  <a:pt x="186224" y="0"/>
                </a:lnTo>
                <a:lnTo>
                  <a:pt x="186224" y="21600"/>
                </a:lnTo>
                <a:lnTo>
                  <a:pt x="0" y="21600"/>
                </a:lnTo>
                <a:close/>
              </a:path>
              <a:path fill="lightenLess" w="186224" h="21600">
                <a:moveTo>
                  <a:pt x="0" y="0"/>
                </a:moveTo>
                <a:lnTo>
                  <a:pt x="186224" y="0"/>
                </a:lnTo>
                <a:lnTo>
                  <a:pt x="184824" y="1400"/>
                </a:lnTo>
                <a:lnTo>
                  <a:pt x="1400" y="1400"/>
                </a:lnTo>
                <a:close/>
              </a:path>
              <a:path fill="darken" w="186224" h="21600">
                <a:moveTo>
                  <a:pt x="186224" y="0"/>
                </a:moveTo>
                <a:lnTo>
                  <a:pt x="186224" y="21600"/>
                </a:lnTo>
                <a:lnTo>
                  <a:pt x="184824" y="20200"/>
                </a:lnTo>
                <a:lnTo>
                  <a:pt x="184824" y="1400"/>
                </a:lnTo>
                <a:close/>
              </a:path>
              <a:path fill="darkenLess" w="186224" h="21600">
                <a:moveTo>
                  <a:pt x="18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24" y="20200"/>
                </a:lnTo>
                <a:close/>
              </a:path>
              <a:path fill="lighten" w="18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224" h="21600">
                <a:moveTo>
                  <a:pt x="86106" y="3794"/>
                </a:moveTo>
                <a:lnTo>
                  <a:pt x="100119" y="10800"/>
                </a:lnTo>
                <a:lnTo>
                  <a:pt x="861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6" name="AutoShape 9">
            <a:hlinkClick r:id="rId3"/>
          </p:cNvPr>
          <p:cNvSpPr/>
          <p:nvPr/>
        </p:nvSpPr>
        <p:spPr>
          <a:xfrm>
            <a:off x="684360" y="2565360"/>
            <a:ext cx="5040000" cy="504720"/>
          </a:xfrm>
          <a:custGeom>
            <a:avLst/>
            <a:gdLst>
              <a:gd name="textAreaLeft" fmla="*/ 32400 w 5040000"/>
              <a:gd name="textAreaRight" fmla="*/ 5007600 w 50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54" h="21600">
                <a:moveTo>
                  <a:pt x="0" y="0"/>
                </a:moveTo>
                <a:lnTo>
                  <a:pt x="215554" y="0"/>
                </a:lnTo>
                <a:lnTo>
                  <a:pt x="215554" y="21600"/>
                </a:lnTo>
                <a:lnTo>
                  <a:pt x="0" y="21600"/>
                </a:lnTo>
                <a:close/>
              </a:path>
              <a:path fill="lightenLess" w="215554" h="21600">
                <a:moveTo>
                  <a:pt x="0" y="0"/>
                </a:moveTo>
                <a:lnTo>
                  <a:pt x="215554" y="0"/>
                </a:lnTo>
                <a:lnTo>
                  <a:pt x="214154" y="1400"/>
                </a:lnTo>
                <a:lnTo>
                  <a:pt x="1400" y="1400"/>
                </a:lnTo>
                <a:close/>
              </a:path>
              <a:path fill="darken" w="215554" h="21600">
                <a:moveTo>
                  <a:pt x="215554" y="0"/>
                </a:moveTo>
                <a:lnTo>
                  <a:pt x="215554" y="21600"/>
                </a:lnTo>
                <a:lnTo>
                  <a:pt x="214154" y="20200"/>
                </a:lnTo>
                <a:lnTo>
                  <a:pt x="214154" y="1400"/>
                </a:lnTo>
                <a:close/>
              </a:path>
              <a:path fill="darkenLess" w="215554" h="21600">
                <a:moveTo>
                  <a:pt x="215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54" y="20200"/>
                </a:lnTo>
                <a:close/>
              </a:path>
              <a:path fill="lighten" w="215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54" h="21600">
                <a:moveTo>
                  <a:pt x="100770" y="3794"/>
                </a:moveTo>
                <a:lnTo>
                  <a:pt x="114783" y="10800"/>
                </a:lnTo>
                <a:lnTo>
                  <a:pt x="10077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27" name="WordArt 11" descr=""/>
          <p:cNvPicPr/>
          <p:nvPr/>
        </p:nvPicPr>
        <p:blipFill>
          <a:blip r:embed="rId4"/>
          <a:stretch/>
        </p:blipFill>
        <p:spPr>
          <a:xfrm>
            <a:off x="2914560" y="476280"/>
            <a:ext cx="3784680" cy="117648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851280" y="1773360"/>
            <a:ext cx="4308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Бриттен"/>
          <p:cNvPicPr/>
          <p:nvPr/>
        </p:nvPicPr>
        <p:blipFill>
          <a:blip r:embed="rId1"/>
          <a:stretch/>
        </p:blipFill>
        <p:spPr>
          <a:xfrm>
            <a:off x="755640" y="1916280"/>
            <a:ext cx="2451240" cy="330192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5"/>
          <p:cNvSpPr/>
          <p:nvPr/>
        </p:nvSpPr>
        <p:spPr>
          <a:xfrm>
            <a:off x="760320" y="5373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енджамин Бритте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32" name="WordArt 6" descr=""/>
          <p:cNvPicPr/>
          <p:nvPr/>
        </p:nvPicPr>
        <p:blipFill>
          <a:blip r:embed="rId2"/>
          <a:stretch/>
        </p:blipFill>
        <p:spPr>
          <a:xfrm>
            <a:off x="1542960" y="615960"/>
            <a:ext cx="6229440" cy="663480"/>
          </a:xfrm>
          <a:prstGeom prst="rect">
            <a:avLst/>
          </a:prstGeom>
          <a:ln w="0">
            <a:noFill/>
          </a:ln>
        </p:spPr>
      </p:pic>
      <p:sp>
        <p:nvSpPr>
          <p:cNvPr id="8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432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Сергей Прокофьев"/>
          <p:cNvPicPr/>
          <p:nvPr/>
        </p:nvPicPr>
        <p:blipFill>
          <a:blip r:embed="rId1"/>
          <a:stretch/>
        </p:blipFill>
        <p:spPr>
          <a:xfrm>
            <a:off x="5292720" y="1484280"/>
            <a:ext cx="2814480" cy="323712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7"/>
          <p:cNvSpPr/>
          <p:nvPr/>
        </p:nvSpPr>
        <p:spPr>
          <a:xfrm>
            <a:off x="5512680" y="486828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ергей Прокофьев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7" name="AutoShape 8">
            <a:hlinkClick r:id="rId2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446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5364000" y="1628640"/>
            <a:ext cx="1511640" cy="201636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13">
            <a:hlinkClick r:id="rId2"/>
          </p:cNvPr>
          <p:cNvSpPr/>
          <p:nvPr/>
        </p:nvSpPr>
        <p:spPr>
          <a:xfrm>
            <a:off x="1042920" y="1844640"/>
            <a:ext cx="3457800" cy="827280"/>
          </a:xfrm>
          <a:custGeom>
            <a:avLst/>
            <a:gdLst>
              <a:gd name="textAreaLeft" fmla="*/ 53640 w 3457800"/>
              <a:gd name="textAreaRight" fmla="*/ 3404160 w 345780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90252" h="21600">
                <a:moveTo>
                  <a:pt x="0" y="0"/>
                </a:moveTo>
                <a:lnTo>
                  <a:pt x="90252" y="0"/>
                </a:lnTo>
                <a:lnTo>
                  <a:pt x="90252" y="21600"/>
                </a:lnTo>
                <a:lnTo>
                  <a:pt x="0" y="21600"/>
                </a:lnTo>
                <a:close/>
              </a:path>
              <a:path fill="lightenLess" w="90252" h="21600">
                <a:moveTo>
                  <a:pt x="0" y="0"/>
                </a:moveTo>
                <a:lnTo>
                  <a:pt x="90252" y="0"/>
                </a:lnTo>
                <a:lnTo>
                  <a:pt x="88852" y="1400"/>
                </a:lnTo>
                <a:lnTo>
                  <a:pt x="1400" y="1400"/>
                </a:lnTo>
                <a:close/>
              </a:path>
              <a:path fill="darken" w="90252" h="21600">
                <a:moveTo>
                  <a:pt x="90252" y="0"/>
                </a:moveTo>
                <a:lnTo>
                  <a:pt x="90252" y="21600"/>
                </a:lnTo>
                <a:lnTo>
                  <a:pt x="88852" y="20200"/>
                </a:lnTo>
                <a:lnTo>
                  <a:pt x="88852" y="1400"/>
                </a:lnTo>
                <a:close/>
              </a:path>
              <a:path fill="darkenLess" w="90252" h="21600">
                <a:moveTo>
                  <a:pt x="9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2" y="20200"/>
                </a:lnTo>
                <a:close/>
              </a:path>
              <a:path fill="lighten" w="9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252" h="21600">
                <a:moveTo>
                  <a:pt x="38120" y="3794"/>
                </a:moveTo>
                <a:lnTo>
                  <a:pt x="52133" y="10800"/>
                </a:lnTo>
                <a:lnTo>
                  <a:pt x="381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42" name="AutoShape 14">
            <a:hlinkClick r:id="rId3"/>
          </p:cNvPr>
          <p:cNvSpPr/>
          <p:nvPr/>
        </p:nvSpPr>
        <p:spPr>
          <a:xfrm>
            <a:off x="1116000" y="4365720"/>
            <a:ext cx="3600360" cy="826920"/>
          </a:xfrm>
          <a:custGeom>
            <a:avLst/>
            <a:gdLst>
              <a:gd name="textAreaLeft" fmla="*/ 53280 w 3600360"/>
              <a:gd name="textAreaRight" fmla="*/ 3547080 w 360036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94014" h="21600">
                <a:moveTo>
                  <a:pt x="0" y="0"/>
                </a:moveTo>
                <a:lnTo>
                  <a:pt x="94014" y="0"/>
                </a:lnTo>
                <a:lnTo>
                  <a:pt x="94014" y="21600"/>
                </a:lnTo>
                <a:lnTo>
                  <a:pt x="0" y="21600"/>
                </a:lnTo>
                <a:close/>
              </a:path>
              <a:path fill="lightenLess" w="94014" h="21600">
                <a:moveTo>
                  <a:pt x="0" y="0"/>
                </a:moveTo>
                <a:lnTo>
                  <a:pt x="94014" y="0"/>
                </a:lnTo>
                <a:lnTo>
                  <a:pt x="92614" y="1400"/>
                </a:lnTo>
                <a:lnTo>
                  <a:pt x="1400" y="1400"/>
                </a:lnTo>
                <a:close/>
              </a:path>
              <a:path fill="darken" w="94014" h="21600">
                <a:moveTo>
                  <a:pt x="94014" y="0"/>
                </a:moveTo>
                <a:lnTo>
                  <a:pt x="94014" y="21600"/>
                </a:lnTo>
                <a:lnTo>
                  <a:pt x="92614" y="20200"/>
                </a:lnTo>
                <a:lnTo>
                  <a:pt x="92614" y="1400"/>
                </a:lnTo>
                <a:close/>
              </a:path>
              <a:path fill="darkenLess" w="94014" h="21600">
                <a:moveTo>
                  <a:pt x="9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614" y="20200"/>
                </a:lnTo>
                <a:close/>
              </a:path>
              <a:path fill="lighten" w="9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014" h="21600">
                <a:moveTo>
                  <a:pt x="40000" y="3794"/>
                </a:moveTo>
                <a:lnTo>
                  <a:pt x="54013" y="10800"/>
                </a:lnTo>
                <a:lnTo>
                  <a:pt x="400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43" name="Picture 15" descr="Шостакович 1"/>
          <p:cNvPicPr/>
          <p:nvPr/>
        </p:nvPicPr>
        <p:blipFill>
          <a:blip r:embed="rId4"/>
          <a:stretch/>
        </p:blipFill>
        <p:spPr>
          <a:xfrm>
            <a:off x="5364000" y="4005360"/>
            <a:ext cx="1565280" cy="1854000"/>
          </a:xfrm>
          <a:prstGeom prst="rect">
            <a:avLst/>
          </a:prstGeom>
          <a:ln w="0">
            <a:noFill/>
          </a:ln>
        </p:spPr>
      </p:pic>
      <p:pic>
        <p:nvPicPr>
          <p:cNvPr id="844" name="WordArt 20" descr=""/>
          <p:cNvPicPr/>
          <p:nvPr/>
        </p:nvPicPr>
        <p:blipFill>
          <a:blip r:embed="rId5"/>
          <a:stretch/>
        </p:blipFill>
        <p:spPr>
          <a:xfrm>
            <a:off x="1042920" y="476280"/>
            <a:ext cx="6881760" cy="882720"/>
          </a:xfrm>
          <a:prstGeom prst="rect">
            <a:avLst/>
          </a:prstGeom>
          <a:ln w="0">
            <a:noFill/>
          </a:ln>
        </p:spPr>
      </p:pic>
      <p:sp>
        <p:nvSpPr>
          <p:cNvPr id="8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9:37:33Z</dcterms:created>
  <dc:creator>Bulat</dc:creator>
  <dc:description/>
  <dc:language>en-US</dc:language>
  <cp:lastModifiedBy>LEGION</cp:lastModifiedBy>
  <dcterms:modified xsi:type="dcterms:W3CDTF">2015-04-02T06:56:17Z</dcterms:modified>
  <cp:revision>73</cp:revision>
  <dc:subject/>
  <dc:title>Слайд 1</dc:title>
</cp:coreProperties>
</file>